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0.png" ContentType="image/png"/>
  <Override PartName="/ppt/media/image8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34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12.png" ContentType="image/png"/>
  <Override PartName="/ppt/media/image36.png" ContentType="image/png"/>
  <Override PartName="/ppt/media/image37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4.png" ContentType="image/png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B640-2671-4B58-A613-B08A1920B3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C64A-738D-4C4A-8937-5746ADDAFF7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D9AE-B537-4466-9CB6-BA0D98B915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27CC-E1FA-4A2E-A1F4-6D1A876D7F8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2DD1-4C45-4855-AC65-A5CAA7F7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89F2-DD16-41E3-9891-B9995C2F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80BF-C037-422D-A5C8-83FD5A80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3B8-A95B-4D08-968B-D8F0BFCB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DA12-ADA4-49CD-A10B-3082D924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0558-92FC-4B31-AB84-BE1D4593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A036-7C0A-4270-8B0C-9357FE4F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0E9A-9FAC-48F5-A5F3-943419A6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24BC-7D13-4A34-9EA5-07EF8759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91D0-55EB-4E87-AF5E-945227AA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A901-4C10-4E60-8E82-001660B1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51F-DAEC-4BE1-85BC-C6600D4E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CB1D-20AE-423F-8210-0F440EAB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55AE-BB0D-4609-AC75-D126842C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508D-35F3-4619-B076-F14D10DD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20D8-0DF5-4858-A56B-78E96746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CF5F-EF01-4AAA-A508-5DBCF5F5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AF95E-2E73-45C0-95C1-4208CBA7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036FF-D687-4A10-8FBD-3840221D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3C0C6-CD27-48D4-ADC0-513528DF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4B2DF-7629-41DB-85D9-4413D973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27FA7-B0C0-431C-AEC3-FF0AE53C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9AD3-9D89-4CA1-ABF6-880430F1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77782-E04F-4D5F-AFE4-83821B07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D909F-C567-4E99-8B1C-38B144D9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A0BED-80EB-424A-A953-CC71E4E5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B17C-A121-40EF-8516-B4AF4C9F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C83E7-C160-4B70-BE45-9B150EB6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CFEC0-254A-4AEB-BBDA-2C401DB4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43C9A-D08D-448A-98D3-E1F80135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5E3BC-8C2B-4E21-8485-15EADFD0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95A6F-DAA5-4352-BCFA-EAC51B7B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BD6C0-55BC-43AA-819E-BC02A221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2736-A047-4507-889E-427B3205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79331-CAB7-4435-BAEA-DE40C4F0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93CC1-6FFA-45AD-BAB4-583785D5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9AF52-DBB0-43B9-B738-E4EF8D15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CADA2-4EE7-4B16-B38C-6F057528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A225A-9C8A-4752-99DD-5AF3BE18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A6902-DCF3-4E29-91C4-B33F47B0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C268D-F4EB-492F-8E05-DCEBE196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26A32-054E-4CC6-A910-8F7C1993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938D9-9C12-434A-B231-B6F32488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2476-C4AD-4955-817A-30C427DB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C0AF-F5BC-4BC8-81E9-2B1CBA4F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68A9-11C4-4762-8764-7F3E8068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6FCE-F267-4F30-9415-B47A6F2A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A306-2B1B-4877-8A01-806604A1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77EA-C905-4EF7-96C4-D7AC44BEB56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C7A3-F227-4EDE-8434-D5045BD9A94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3627-07A0-4633-B4A4-E60C5AE7206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8A78-70D7-4C8C-B0B3-8AAA6F214AD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5"/>
          <p:cNvSpPr/>
          <p:nvPr/>
        </p:nvSpPr>
        <p:spPr>
          <a:xfrm>
            <a:off x="1979640" y="1700280"/>
            <a:ext cx="692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Бюджет для граждан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"/>
          <p:cNvSpPr/>
          <p:nvPr/>
        </p:nvSpPr>
        <p:spPr>
          <a:xfrm>
            <a:off x="2050920" y="301608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 проекту Решен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вета народных депутатов городского поселения – город Павловс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Об утверждении бюджета городского поселения – город Павловск на 2023 год и плановый период 2024 и 2025 годов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Понятие и типы расходных обязательств</a:t>
            </a: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Расходное обязательство – это обязанность выплатить денежные средства из соответствующего бюджета.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Таблица 3" descr=""/>
          <p:cNvPicPr/>
          <p:nvPr/>
        </p:nvPicPr>
        <p:blipFill>
          <a:blip r:embed="rId1"/>
          <a:stretch/>
        </p:blipFill>
        <p:spPr>
          <a:xfrm>
            <a:off x="566640" y="2000160"/>
            <a:ext cx="82915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Заголовок 1"/>
          <p:cNvSpPr/>
          <p:nvPr/>
        </p:nvSpPr>
        <p:spPr>
          <a:xfrm>
            <a:off x="857160" y="785880"/>
            <a:ext cx="7500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 Antiqua"/>
              </a:rPr>
              <a:t>Расходы бюджета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ook Antiqua"/>
              </a:rPr>
              <a:t>Расходы бюджета – это выплачиваемые из бюджета денежные средства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Схема 18" descr=""/>
          <p:cNvPicPr/>
          <p:nvPr/>
        </p:nvPicPr>
        <p:blipFill>
          <a:blip r:embed="rId1"/>
          <a:stretch/>
        </p:blipFill>
        <p:spPr>
          <a:xfrm>
            <a:off x="858960" y="1639800"/>
            <a:ext cx="763884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сходы бюджета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бюджета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лачиваемые из бюджета денежные средства, за исключением средств, являющихся источниками дефицита бюджет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расходо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 соответствии с расходными обязательствами, обусловленными установленным законодательством разграничением полномочий, исполнение которых должно происходить в очередном финансовом году за счет средств соответствующих бюджет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формирования расходов бюджет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азделам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едомствам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униципальным программам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Скругленный прямоугольник 3"/>
          <p:cNvSpPr/>
          <p:nvPr/>
        </p:nvSpPr>
        <p:spPr>
          <a:xfrm>
            <a:off x="142920" y="3857760"/>
            <a:ext cx="8858160" cy="357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ы классификации расходов бюджет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Скругленный прямоугольник 4"/>
          <p:cNvSpPr/>
          <p:nvPr/>
        </p:nvSpPr>
        <p:spPr>
          <a:xfrm>
            <a:off x="468360" y="4508640"/>
            <a:ext cx="1000080" cy="928440"/>
          </a:xfrm>
          <a:prstGeom prst="roundRect">
            <a:avLst>
              <a:gd name="adj" fmla="val 16667"/>
            </a:avLst>
          </a:prstGeom>
          <a:solidFill>
            <a:srgbClr val="ff88ba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  <a:ea typeface="Arial"/>
              </a:rPr>
              <a:t>01 «Общегосу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-д</a:t>
            </a:r>
            <a:r>
              <a:rPr b="0" lang="ru-RU" sz="1000" spc="-1" strike="noStrike">
                <a:solidFill>
                  <a:srgbClr val="000000"/>
                </a:solidFill>
                <a:latin typeface="Cambria"/>
                <a:ea typeface="Arial"/>
              </a:rPr>
              <a:t>арственные вопросы»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Скругленный прямоугольник 7"/>
          <p:cNvSpPr/>
          <p:nvPr/>
        </p:nvSpPr>
        <p:spPr>
          <a:xfrm>
            <a:off x="5651640" y="5373720"/>
            <a:ext cx="1285560" cy="785880"/>
          </a:xfrm>
          <a:prstGeom prst="roundRect">
            <a:avLst>
              <a:gd name="adj" fmla="val 16667"/>
            </a:avLst>
          </a:prstGeom>
          <a:solidFill>
            <a:srgbClr val="ab0043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mbria"/>
                <a:ea typeface="Arial"/>
              </a:rPr>
              <a:t>08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mbria"/>
                <a:ea typeface="Arial"/>
              </a:rPr>
              <a:t>«Культура , кинематография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Скругленный прямоугольник 8"/>
          <p:cNvSpPr/>
          <p:nvPr/>
        </p:nvSpPr>
        <p:spPr>
          <a:xfrm>
            <a:off x="1835280" y="4581360"/>
            <a:ext cx="1214280" cy="9288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  <a:ea typeface="Arial"/>
              </a:rPr>
              <a:t>03 «Национальная безопасность и правоохранительная деятельность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Скругленный прямоугольник 10"/>
          <p:cNvSpPr/>
          <p:nvPr/>
        </p:nvSpPr>
        <p:spPr>
          <a:xfrm>
            <a:off x="3132000" y="5445000"/>
            <a:ext cx="1289160" cy="648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mbria"/>
                <a:ea typeface="Arial"/>
              </a:rPr>
              <a:t>04 «Национальная экономика»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Скругленный прямоугольник 12"/>
          <p:cNvSpPr/>
          <p:nvPr/>
        </p:nvSpPr>
        <p:spPr>
          <a:xfrm>
            <a:off x="6659640" y="4437000"/>
            <a:ext cx="1143000" cy="785880"/>
          </a:xfrm>
          <a:prstGeom prst="roundRect">
            <a:avLst>
              <a:gd name="adj" fmla="val 16667"/>
            </a:avLst>
          </a:prstGeom>
          <a:solidFill>
            <a:srgbClr val="ff8eba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  <a:ea typeface="Arial"/>
              </a:rPr>
              <a:t>«Социальная политика»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Скругленный прямоугольник 13"/>
          <p:cNvSpPr/>
          <p:nvPr/>
        </p:nvSpPr>
        <p:spPr>
          <a:xfrm>
            <a:off x="4356000" y="4508640"/>
            <a:ext cx="1224000" cy="928440"/>
          </a:xfrm>
          <a:prstGeom prst="roundRect">
            <a:avLst>
              <a:gd name="adj" fmla="val 16667"/>
            </a:avLst>
          </a:prstGeom>
          <a:solidFill>
            <a:srgbClr val="2c71ff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  <a:ea typeface="Arial"/>
              </a:rPr>
              <a:t>05 «Жилищно-коммунальное хозяйство»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Скругленный прямоугольник 16"/>
          <p:cNvSpPr/>
          <p:nvPr/>
        </p:nvSpPr>
        <p:spPr>
          <a:xfrm>
            <a:off x="7451640" y="5373720"/>
            <a:ext cx="1441440" cy="1069920"/>
          </a:xfrm>
          <a:prstGeom prst="roundRect">
            <a:avLst>
              <a:gd name="adj" fmla="val 16667"/>
            </a:avLst>
          </a:prstGeom>
          <a:solidFill>
            <a:srgbClr val="ed1fd4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mbria"/>
                <a:ea typeface="Arial"/>
              </a:rPr>
              <a:t>13 «Обслуживание государственного и муниципального долга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Прямая соединительная линия 24"/>
          <p:cNvSpPr/>
          <p:nvPr/>
        </p:nvSpPr>
        <p:spPr>
          <a:xfrm flipH="1">
            <a:off x="6300720" y="4221000"/>
            <a:ext cx="7920" cy="115272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Прямая соединительная линия 26"/>
          <p:cNvSpPr/>
          <p:nvPr/>
        </p:nvSpPr>
        <p:spPr>
          <a:xfrm flipH="1">
            <a:off x="971640" y="4221000"/>
            <a:ext cx="1440" cy="28764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Прямая соединительная линия 30"/>
          <p:cNvSpPr/>
          <p:nvPr/>
        </p:nvSpPr>
        <p:spPr>
          <a:xfrm>
            <a:off x="2411280" y="4221000"/>
            <a:ext cx="0" cy="36036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Прямая соединительная линия 32"/>
          <p:cNvSpPr/>
          <p:nvPr/>
        </p:nvSpPr>
        <p:spPr>
          <a:xfrm flipH="1">
            <a:off x="5003280" y="4221000"/>
            <a:ext cx="1800" cy="28764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Прямая соединительная линия 41"/>
          <p:cNvSpPr/>
          <p:nvPr/>
        </p:nvSpPr>
        <p:spPr>
          <a:xfrm flipH="1">
            <a:off x="3708000" y="4221000"/>
            <a:ext cx="1800" cy="121464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Прямая соединительная линия 43"/>
          <p:cNvSpPr/>
          <p:nvPr/>
        </p:nvSpPr>
        <p:spPr>
          <a:xfrm flipH="1">
            <a:off x="7236000" y="4221000"/>
            <a:ext cx="2880" cy="21600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Прямая соединительная линия 51"/>
          <p:cNvSpPr/>
          <p:nvPr/>
        </p:nvSpPr>
        <p:spPr>
          <a:xfrm flipH="1">
            <a:off x="8244000" y="4221000"/>
            <a:ext cx="1440" cy="115272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43912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f6fc6"/>
                </a:solidFill>
                <a:latin typeface="Times New Roman"/>
              </a:rPr>
              <a:t>РАСХОДЫ  БЮДЖЕТА в 2023-2025 г.г.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24000" y="1125360"/>
          <a:ext cx="8496000" cy="5578560"/>
        </p:xfrm>
        <a:graphic>
          <a:graphicData uri="http://schemas.openxmlformats.org/drawingml/2006/table">
            <a:tbl>
              <a:tblPr/>
              <a:tblGrid>
                <a:gridCol w="5140080"/>
                <a:gridCol w="1141560"/>
                <a:gridCol w="1141200"/>
                <a:gridCol w="1073160"/>
              </a:tblGrid>
              <a:tr h="728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сходы на реализацию муниципальных  программ,                            в том числе: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23 год проек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24 год проек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ек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88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Муниципальная программа «Эффективная власть</a:t>
                      </a: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15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138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240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88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Муниципальная программа «Безопасность городского поселения – город Павловск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0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3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Муниципальная програм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Обеспечение градостроительной деятельности на территории городского поселения – город Павловс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714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4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Муниципальная программ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Развитие транспортной системы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947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122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191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Муниципальная программа «Обеспечение доступным и комфортным жильем и комфортными услугами  населения городского поселения – город Павловс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Муниципальная программа «Благоустройство городского поселения – город Павловск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395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201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57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Муниципальная программа «Формирование современной городской среды на 2018-2024 годы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163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40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930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Муниципальная целевая программа "Обеспечение качественными жилищно-коммунальными услугами населения Воронежской области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9453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489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sp>
        <p:nvSpPr>
          <p:cNvPr id="290" name="Rectangle 1"/>
          <p:cNvSpPr/>
          <p:nvPr/>
        </p:nvSpPr>
        <p:spPr>
          <a:xfrm>
            <a:off x="4256280" y="74880"/>
            <a:ext cx="63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ефицит и профицит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2" name="Содержимое 2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515440" cy="4032360"/>
          </a:xfrm>
          <a:prstGeom prst="rect">
            <a:avLst/>
          </a:prstGeom>
          <a:ln w="0">
            <a:noFill/>
          </a:ln>
        </p:spPr>
      </p:pic>
      <p:grpSp>
        <p:nvGrpSpPr>
          <p:cNvPr id="293" name="Скругленный прямоугольник 4"/>
          <p:cNvGrpSpPr/>
          <p:nvPr/>
        </p:nvGrpSpPr>
        <p:grpSpPr>
          <a:xfrm>
            <a:off x="695160" y="1695600"/>
            <a:ext cx="3748320" cy="2238120"/>
            <a:chOff x="695160" y="1695600"/>
            <a:chExt cx="3748320" cy="2238120"/>
          </a:xfrm>
        </p:grpSpPr>
        <p:pic>
          <p:nvPicPr>
            <p:cNvPr id="294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695160" y="1695600"/>
              <a:ext cx="374832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53920" y="1818360"/>
              <a:ext cx="3435480" cy="19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96" name="Скругленный прямоугольник 5"/>
          <p:cNvGrpSpPr/>
          <p:nvPr/>
        </p:nvGrpSpPr>
        <p:grpSpPr>
          <a:xfrm>
            <a:off x="4979880" y="1695600"/>
            <a:ext cx="3676680" cy="2238120"/>
            <a:chOff x="4979880" y="1695600"/>
            <a:chExt cx="3676680" cy="2238120"/>
          </a:xfrm>
        </p:grpSpPr>
        <p:pic>
          <p:nvPicPr>
            <p:cNvPr id="297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4979880" y="1695600"/>
              <a:ext cx="367668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5140440" y="1818360"/>
              <a:ext cx="3363840" cy="19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99" name="Скругленный прямоугольник 6"/>
          <p:cNvGrpSpPr/>
          <p:nvPr/>
        </p:nvGrpSpPr>
        <p:grpSpPr>
          <a:xfrm>
            <a:off x="749160" y="1536840"/>
            <a:ext cx="3640320" cy="493560"/>
            <a:chOff x="749160" y="1536840"/>
            <a:chExt cx="3640320" cy="493560"/>
          </a:xfrm>
        </p:grpSpPr>
        <p:pic>
          <p:nvPicPr>
            <p:cNvPr id="300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749160" y="1536840"/>
              <a:ext cx="364032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806400" y="1592280"/>
              <a:ext cx="3530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mbria"/>
                  <a:ea typeface="Arial"/>
                </a:rPr>
                <a:t>дефицит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02" name="Скругленный прямоугольник 7"/>
          <p:cNvGrpSpPr/>
          <p:nvPr/>
        </p:nvGrpSpPr>
        <p:grpSpPr>
          <a:xfrm>
            <a:off x="5048280" y="1474920"/>
            <a:ext cx="3541680" cy="469800"/>
            <a:chOff x="5048280" y="1474920"/>
            <a:chExt cx="3541680" cy="469800"/>
          </a:xfrm>
        </p:grpSpPr>
        <p:pic>
          <p:nvPicPr>
            <p:cNvPr id="303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5048280" y="1474920"/>
              <a:ext cx="35416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5092560" y="1521000"/>
              <a:ext cx="345924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профицит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05" name="Скругленный прямоугольник 8"/>
          <p:cNvGrpSpPr/>
          <p:nvPr/>
        </p:nvGrpSpPr>
        <p:grpSpPr>
          <a:xfrm>
            <a:off x="981000" y="2193840"/>
            <a:ext cx="3176640" cy="604800"/>
            <a:chOff x="981000" y="2193840"/>
            <a:chExt cx="3176640" cy="604800"/>
          </a:xfrm>
        </p:grpSpPr>
        <p:pic>
          <p:nvPicPr>
            <p:cNvPr id="306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981000" y="2193840"/>
              <a:ext cx="317664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028880" y="2243160"/>
              <a:ext cx="3085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Накопленные резервы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08" name="Скругленный прямоугольник 9"/>
          <p:cNvGrpSpPr/>
          <p:nvPr/>
        </p:nvGrpSpPr>
        <p:grpSpPr>
          <a:xfrm>
            <a:off x="981000" y="2981160"/>
            <a:ext cx="3176640" cy="743040"/>
            <a:chOff x="981000" y="2981160"/>
            <a:chExt cx="3176640" cy="743040"/>
          </a:xfrm>
        </p:grpSpPr>
        <p:pic>
          <p:nvPicPr>
            <p:cNvPr id="309" name="Скругленный прямоугольник 9" descr=""/>
            <p:cNvPicPr/>
            <p:nvPr/>
          </p:nvPicPr>
          <p:blipFill>
            <a:blip r:embed="rId8"/>
            <a:stretch/>
          </p:blipFill>
          <p:spPr>
            <a:xfrm>
              <a:off x="981000" y="2981160"/>
              <a:ext cx="31766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1035000" y="3035160"/>
              <a:ext cx="307332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униципаль</a:t>
              </a:r>
              <a:r>
                <a:rPr b="1" lang="en-US" sz="16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ный долг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11" name="Скругленный прямоугольник 10"/>
          <p:cNvGrpSpPr/>
          <p:nvPr/>
        </p:nvGrpSpPr>
        <p:grpSpPr>
          <a:xfrm>
            <a:off x="5340240" y="2127240"/>
            <a:ext cx="2955960" cy="596880"/>
            <a:chOff x="5340240" y="2127240"/>
            <a:chExt cx="2955960" cy="596880"/>
          </a:xfrm>
        </p:grpSpPr>
        <p:pic>
          <p:nvPicPr>
            <p:cNvPr id="312" name="Скругленный прямоугольник 10" descr=""/>
            <p:cNvPicPr/>
            <p:nvPr/>
          </p:nvPicPr>
          <p:blipFill>
            <a:blip r:embed="rId9"/>
            <a:stretch/>
          </p:blipFill>
          <p:spPr>
            <a:xfrm>
              <a:off x="5340240" y="2127240"/>
              <a:ext cx="29559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5386320" y="2171880"/>
              <a:ext cx="28717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Накопленные резервы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14" name="Скругленный прямоугольник 11"/>
          <p:cNvGrpSpPr/>
          <p:nvPr/>
        </p:nvGrpSpPr>
        <p:grpSpPr>
          <a:xfrm>
            <a:off x="5340240" y="3054240"/>
            <a:ext cx="2955960" cy="669960"/>
            <a:chOff x="5340240" y="3054240"/>
            <a:chExt cx="2955960" cy="669960"/>
          </a:xfrm>
        </p:grpSpPr>
        <p:pic>
          <p:nvPicPr>
            <p:cNvPr id="315" name="Скругленный 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5340240" y="3054240"/>
              <a:ext cx="29559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389560" y="3103560"/>
              <a:ext cx="2865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униципаль</a:t>
              </a:r>
              <a:r>
                <a:rPr b="1" lang="en-US" sz="16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ный долг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17" name="Стрелка вниз 12"/>
          <p:cNvGrpSpPr/>
          <p:nvPr/>
        </p:nvGrpSpPr>
        <p:grpSpPr>
          <a:xfrm>
            <a:off x="3535200" y="2335320"/>
            <a:ext cx="347760" cy="328680"/>
            <a:chOff x="3535200" y="2335320"/>
            <a:chExt cx="347760" cy="328680"/>
          </a:xfrm>
        </p:grpSpPr>
        <p:pic>
          <p:nvPicPr>
            <p:cNvPr id="318" name="Стрелка вниз 12" descr=""/>
            <p:cNvPicPr/>
            <p:nvPr/>
          </p:nvPicPr>
          <p:blipFill>
            <a:blip r:embed="rId11"/>
            <a:stretch/>
          </p:blipFill>
          <p:spPr>
            <a:xfrm>
              <a:off x="3535200" y="2335320"/>
              <a:ext cx="34776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643200" y="2357280"/>
              <a:ext cx="1429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20" name="Стрелка вверх 13"/>
          <p:cNvGrpSpPr/>
          <p:nvPr/>
        </p:nvGrpSpPr>
        <p:grpSpPr>
          <a:xfrm>
            <a:off x="3535200" y="3114720"/>
            <a:ext cx="347760" cy="403200"/>
            <a:chOff x="3535200" y="3114720"/>
            <a:chExt cx="347760" cy="403200"/>
          </a:xfrm>
        </p:grpSpPr>
        <p:pic>
          <p:nvPicPr>
            <p:cNvPr id="321" name="Стрелка вверх 13" descr=""/>
            <p:cNvPicPr/>
            <p:nvPr/>
          </p:nvPicPr>
          <p:blipFill>
            <a:blip r:embed="rId12"/>
            <a:stretch/>
          </p:blipFill>
          <p:spPr>
            <a:xfrm>
              <a:off x="3535200" y="3114720"/>
              <a:ext cx="347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3643200" y="3214800"/>
              <a:ext cx="1429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23" name="Стрелка вверх 14"/>
          <p:cNvGrpSpPr/>
          <p:nvPr/>
        </p:nvGrpSpPr>
        <p:grpSpPr>
          <a:xfrm>
            <a:off x="7753320" y="2262240"/>
            <a:ext cx="274680" cy="328680"/>
            <a:chOff x="7753320" y="2262240"/>
            <a:chExt cx="274680" cy="328680"/>
          </a:xfrm>
        </p:grpSpPr>
        <p:pic>
          <p:nvPicPr>
            <p:cNvPr id="324" name="Стрелка вверх 14" descr=""/>
            <p:cNvPicPr/>
            <p:nvPr/>
          </p:nvPicPr>
          <p:blipFill>
            <a:blip r:embed="rId13"/>
            <a:stretch/>
          </p:blipFill>
          <p:spPr>
            <a:xfrm>
              <a:off x="7753320" y="2262240"/>
              <a:ext cx="27468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7840800" y="2340000"/>
              <a:ext cx="1062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26" name="Стрелка вниз 15"/>
          <p:cNvGrpSpPr/>
          <p:nvPr/>
        </p:nvGrpSpPr>
        <p:grpSpPr>
          <a:xfrm>
            <a:off x="7753320" y="3187800"/>
            <a:ext cx="274680" cy="336600"/>
            <a:chOff x="7753320" y="3187800"/>
            <a:chExt cx="274680" cy="336600"/>
          </a:xfrm>
        </p:grpSpPr>
        <p:pic>
          <p:nvPicPr>
            <p:cNvPr id="327" name="Стрелка вниз 15" descr=""/>
            <p:cNvPicPr/>
            <p:nvPr/>
          </p:nvPicPr>
          <p:blipFill>
            <a:blip r:embed="rId14"/>
            <a:stretch/>
          </p:blipFill>
          <p:spPr>
            <a:xfrm>
              <a:off x="7753320" y="3187800"/>
              <a:ext cx="27468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7840800" y="3214800"/>
              <a:ext cx="1062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547640" y="5013360"/>
            <a:ext cx="64090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23 год – дефицит -8900  тыс. рубле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24 год – сбалансированный бюдже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25 год – сбалансированный бюдже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3" descr="D:\РАБОТА - НАТАША\Администрация\Исполненеие бюджета\символы\32683507_shutterstock_11474659.jpg"/>
          <p:cNvPicPr/>
          <p:nvPr/>
        </p:nvPicPr>
        <p:blipFill>
          <a:blip r:embed="rId2"/>
          <a:stretch/>
        </p:blipFill>
        <p:spPr>
          <a:xfrm>
            <a:off x="7961400" y="687240"/>
            <a:ext cx="931680" cy="116388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71640" y="820800"/>
            <a:ext cx="324000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Глоссарий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TextBox 2"/>
          <p:cNvSpPr/>
          <p:nvPr/>
        </p:nvSpPr>
        <p:spPr>
          <a:xfrm>
            <a:off x="285840" y="1268280"/>
            <a:ext cx="860724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Администратор доходов бюджет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Бюдже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1.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2.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Бюджет консолидированный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Свод бюджетов бюджетной системы Российской Федерации на соответствующей территории (за исключением бюджетов государственных внебюджетных фондов). Консолидированным может быть бюджет на местном уровне (свод бюджета муниципального образования и бюджетов входящих в него поселений), региональном (свод бюджета субъекта Российской Федерации и бюджетов входящих в него муниципальных образований), федеральном (свод всех бюджетов бюджетной системы Российской Федерации)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Бюджет муниципального образования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1.Фонд денежных средств, предназначенный для финансирования функций, отнесенных к предметам ведения местного самоуправления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2.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Бюджетная роспись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Документ, который составляется и ведется: - Главным распорядителем бюджетных средств - в целях исполнения бюджета в части расходов; - Главным администратором источников финансирования дефицита бюджета - в целях исполнения бюджета в части источников финансирования дефицита бюджет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71280" y="820800"/>
            <a:ext cx="216036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Глоссарий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TextBox 2"/>
          <p:cNvSpPr/>
          <p:nvPr/>
        </p:nvSpPr>
        <p:spPr>
          <a:xfrm>
            <a:off x="285840" y="1268280"/>
            <a:ext cx="860724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Г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Главный администратор доходов бюджет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имеющий(ее) в своем ведении администраторов доходов бюджет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Главный распорядитель бюджетных средств (ГРБС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Орган государственной власти (местного самоуправления), орган управления государственным внебюджетным фондом, или наиболее значимое учреждение науки, образования, культуры и здравоохранения, напрямую получающий(ее) средства из бюджета и наделенный правом распределять их между подведомственными распорядителями и получателями бюджетных средств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Д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Дефицит бюджет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Превышение расходов бюджета над его доходами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Дотаци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Доходы бюджет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Межбюджетные трансферты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Средства, предоставляемые одним бюджетом бюджетной системы РФ другому бюджету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Профицит бюджет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Превышение доходов бюджета над его расходами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5" name="Picture 3" descr="D:\РАБОТА - НАТАША\Администрация\Исполненеие бюджета\символы\32683507_shutterstock_11474659.jpg"/>
          <p:cNvPicPr/>
          <p:nvPr/>
        </p:nvPicPr>
        <p:blipFill>
          <a:blip r:embed="rId2"/>
          <a:stretch/>
        </p:blipFill>
        <p:spPr>
          <a:xfrm>
            <a:off x="7961400" y="608040"/>
            <a:ext cx="9316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71280" y="820800"/>
            <a:ext cx="216036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Глоссарий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TextBox 2"/>
          <p:cNvSpPr/>
          <p:nvPr/>
        </p:nvSpPr>
        <p:spPr>
          <a:xfrm>
            <a:off x="285840" y="1268280"/>
            <a:ext cx="8607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Распорядитель бюджетных средств (РБС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Орган государственной власти (местного самоуправления), орган управления государственным внебюджетным фондом, или казенное учреждение, наделенный(ое) правом распределять полученные средства бюджета между подведомственными распорядителями и получателями бюджетных средств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Расходное обязательство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Обязанность публично-правового образования предоставить физическому или юридическому лицу, иному уровню бюджета, международной организации средства из соответствующего бюджет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Расходы бюджет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Выплачиваемые из бюдже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Book Antiqua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Участники бюджетного процесс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Ф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Финансовый орган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На федеральном уровне - Министерство финансов Российской Федерации. На уровне субъекта РФ - органы исполнительной власти субъектов РФ, осуществляющие составление и организацию исполнения бюджетов субъектов РФ (министерства финансов, департаменты финансов, управления финансов и др.). На местном уровне - органы (должностные лица) местных администраций, осуществляющие составление и организацию исполнения местных бюджетов (департаменты финансов, управления финансов, финансовые отделы и др.)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8" name="Picture 3" descr="D:\РАБОТА - НАТАША\Администрация\Исполненеие бюджета\символы\32683507_shutterstock_11474659.jpg"/>
          <p:cNvPicPr/>
          <p:nvPr/>
        </p:nvPicPr>
        <p:blipFill>
          <a:blip r:embed="rId2"/>
          <a:stretch/>
        </p:blipFill>
        <p:spPr>
          <a:xfrm>
            <a:off x="7961400" y="687240"/>
            <a:ext cx="931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f6fc6"/>
                </a:solidFill>
                <a:latin typeface="Times New Roman"/>
              </a:rPr>
              <a:t>Контактная информация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естонахождение администрации городского поселения – город Павловс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мкр.Северный, д. 23А,  г. Павловск,  Воронежская область, 396420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нтактный телефо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(47362) 7-02-4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дрес электронной почт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vlg.pavl@govvrn.ru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График работы администра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недельник – пятница с 8-00 до 17-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График личного приема главы городского поселения – город Павловс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размещен на  официальном сайте администрации в сети «Интернет» по адресу:  http://pavlovskadmin.ru/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i5"/>
          <p:cNvPicPr/>
          <p:nvPr/>
        </p:nvPicPr>
        <p:blipFill>
          <a:blip r:embed="rId2"/>
          <a:stretch/>
        </p:blipFill>
        <p:spPr>
          <a:xfrm>
            <a:off x="285840" y="1571760"/>
            <a:ext cx="1143000" cy="13046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1619280" y="145440"/>
            <a:ext cx="695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онятие документа  «Бюджет для граждан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– это план доходов и расходов на определенный период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1" descr="D:\Документы\2014\Задания отчеты\Исполненеие бюджета\фото для оформления\83562073.jpg"/>
          <p:cNvPicPr/>
          <p:nvPr/>
        </p:nvPicPr>
        <p:blipFill>
          <a:blip r:embed="rId3"/>
          <a:stretch/>
        </p:blipFill>
        <p:spPr>
          <a:xfrm>
            <a:off x="285840" y="464328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763640" y="1628640"/>
            <a:ext cx="691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едставленная информация предназначена для широкого круга пользователей и будет интересна и полезна различным категориям населения городского поселения – город Павловск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раждане – и как налогоплательщики, и как потребители общественных благ – должны быть уверены в том, что передаваемые ими в распоряжение государства средства используются прозрачно и эффективно, приносят конкретные результаты как для общества в целом, так и для каждой семьи, для каждого человек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ы постарались в доступной и понятной форме для граждан  показать основные параметры бюджет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D:\Документы\2014\Задания отчеты\Исполненеие бюджета\фото для оформления\6885.jpg"/>
          <p:cNvPicPr/>
          <p:nvPr/>
        </p:nvPicPr>
        <p:blipFill>
          <a:blip r:embed="rId2"/>
          <a:stretch/>
        </p:blipFill>
        <p:spPr>
          <a:xfrm>
            <a:off x="6313320" y="4309920"/>
            <a:ext cx="2428920" cy="1822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209" name=""/>
          <p:cNvGraphicFramePr/>
          <p:nvPr/>
        </p:nvGraphicFramePr>
        <p:xfrm>
          <a:off x="5143680" y="5715000"/>
          <a:ext cx="3886200" cy="579600"/>
        </p:xfrm>
        <a:graphic>
          <a:graphicData uri="http://schemas.openxmlformats.org/drawingml/2006/table">
            <a:tbl>
              <a:tblPr/>
              <a:tblGrid>
                <a:gridCol w="1485720"/>
                <a:gridCol w="2400480"/>
              </a:tblGrid>
              <a:tr h="57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Rectangle 2"/>
          <p:cNvSpPr/>
          <p:nvPr/>
        </p:nvSpPr>
        <p:spPr>
          <a:xfrm>
            <a:off x="741240" y="1643760"/>
            <a:ext cx="80010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Обязательное опубликование в средствах массовой информации утвержденных бюджетов и отчетов об их исполнени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Доступность иных сведений о бюджетах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Обязательная открытость для общества и средств массовой информации проектов бюджетов, обеспечение доступа к информации на едином портале бюджетной системы Российской информации в сети «Интернет»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реемственность бюджетной классификации Российской Федерации, а также обеспечение сопоставимости показателей бюджета отчетного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текущего и очередного финансового год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905040" y="47592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ринцип прозрачности (открытости) бюджетной системы Российской Федерации означает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3214800" y="6143760"/>
            <a:ext cx="53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Бюджетный кодекс Российской Федерации, статья 3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Группа 22"/>
          <p:cNvGrpSpPr/>
          <p:nvPr/>
        </p:nvGrpSpPr>
        <p:grpSpPr>
          <a:xfrm>
            <a:off x="357120" y="1357200"/>
            <a:ext cx="8423280" cy="5214960"/>
            <a:chOff x="357120" y="1357200"/>
            <a:chExt cx="8423280" cy="5214960"/>
          </a:xfrm>
        </p:grpSpPr>
        <p:grpSp>
          <p:nvGrpSpPr>
            <p:cNvPr id="214" name="Группа 14"/>
            <p:cNvGrpSpPr/>
            <p:nvPr/>
          </p:nvGrpSpPr>
          <p:grpSpPr>
            <a:xfrm>
              <a:off x="2084040" y="1461600"/>
              <a:ext cx="6696360" cy="5004720"/>
              <a:chOff x="2084040" y="1461600"/>
              <a:chExt cx="6696360" cy="5004720"/>
            </a:xfrm>
          </p:grpSpPr>
          <p:grpSp>
            <p:nvGrpSpPr>
              <p:cNvPr id="215" name="Rectangle 2"/>
              <p:cNvGrpSpPr/>
              <p:nvPr/>
            </p:nvGrpSpPr>
            <p:grpSpPr>
              <a:xfrm>
                <a:off x="2084040" y="1461600"/>
                <a:ext cx="6696360" cy="520560"/>
                <a:chOff x="2084040" y="1461600"/>
                <a:chExt cx="6696360" cy="520560"/>
              </a:xfrm>
            </p:grpSpPr>
            <p:pic>
              <p:nvPicPr>
                <p:cNvPr id="216" name="Rectangle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84040" y="1461600"/>
                  <a:ext cx="6696360" cy="52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7" name=""/>
                <p:cNvSpPr/>
                <p:nvPr/>
              </p:nvSpPr>
              <p:spPr>
                <a:xfrm>
                  <a:off x="2113200" y="1487520"/>
                  <a:ext cx="664524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Book Antiqua"/>
                      <a:ea typeface="Arial"/>
                    </a:rPr>
                    <a:t>Определение основных подходов к формированию бюджета городского поселен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  <p:sp>
            <p:nvSpPr>
              <p:cNvPr id="218" name="Rectangle 4"/>
              <p:cNvSpPr/>
              <p:nvPr/>
            </p:nvSpPr>
            <p:spPr>
              <a:xfrm>
                <a:off x="2113200" y="2048760"/>
                <a:ext cx="6645240" cy="420480"/>
              </a:xfrm>
              <a:prstGeom prst="rect">
                <a:avLst/>
              </a:prstGeom>
              <a:gradFill rotWithShape="0">
                <a:gsLst>
                  <a:gs pos="0">
                    <a:srgbClr val="5ef0f7"/>
                  </a:gs>
                  <a:gs pos="100000">
                    <a:srgbClr val="2cafa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  <a:ea typeface="Arial"/>
                  </a:rPr>
                  <a:t>Основные показатели прогноза социально-экономического развития городского поселения – город Павловск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19" name="Rectangle 5"/>
              <p:cNvSpPr/>
              <p:nvPr/>
            </p:nvSpPr>
            <p:spPr>
              <a:xfrm>
                <a:off x="2113200" y="2749680"/>
                <a:ext cx="6645240" cy="490680"/>
              </a:xfrm>
              <a:prstGeom prst="rect">
                <a:avLst/>
              </a:prstGeom>
              <a:gradFill rotWithShape="0">
                <a:gsLst>
                  <a:gs pos="0">
                    <a:srgbClr val="5ef0f7"/>
                  </a:gs>
                  <a:gs pos="100000">
                    <a:srgbClr val="2cafa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  <a:ea typeface="Arial"/>
                  </a:rPr>
                  <a:t>Работа казенного учреждения и структурных подразделений администрации по подготовке и  обоснованию бюджетных ассигнований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20" name="Rectangle 6"/>
              <p:cNvSpPr/>
              <p:nvPr/>
            </p:nvSpPr>
            <p:spPr>
              <a:xfrm>
                <a:off x="2113200" y="3450960"/>
                <a:ext cx="6645240" cy="631080"/>
              </a:xfrm>
              <a:prstGeom prst="rect">
                <a:avLst/>
              </a:prstGeom>
              <a:gradFill rotWithShape="0">
                <a:gsLst>
                  <a:gs pos="0">
                    <a:srgbClr val="5ef0f7"/>
                  </a:gs>
                  <a:gs pos="100000">
                    <a:srgbClr val="2cafa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  <a:ea typeface="Arial"/>
                  </a:rPr>
                  <a:t>Одобрение главой городского поселения – город Павловск проекта решения Совета народных депутатов городского поселения – город Павловск о бюджете городского поселения – город Павловск на очередной финансовый год и плановый период. 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              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              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21" name="Rectangle 8"/>
              <p:cNvSpPr/>
              <p:nvPr/>
            </p:nvSpPr>
            <p:spPr>
              <a:xfrm>
                <a:off x="2113200" y="4292640"/>
                <a:ext cx="6580800" cy="631080"/>
              </a:xfrm>
              <a:prstGeom prst="rect">
                <a:avLst/>
              </a:prstGeom>
              <a:gradFill rotWithShape="0">
                <a:gsLst>
                  <a:gs pos="0">
                    <a:srgbClr val="5ef0f7"/>
                  </a:gs>
                  <a:gs pos="100000">
                    <a:srgbClr val="2cb0b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  <a:ea typeface="Arial"/>
                  </a:rPr>
                  <a:t>Внесение главой городского поселения – город Павловск проекта решения Совета народных депутатов о бюджете городского поселения – город Павловск на рассмотрение в Совет  народных  депутатов городского поселения – город Павловск (не позднее  15 ноября) 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22" name="Rectangle 9"/>
              <p:cNvSpPr/>
              <p:nvPr/>
            </p:nvSpPr>
            <p:spPr>
              <a:xfrm>
                <a:off x="2183760" y="5905440"/>
                <a:ext cx="6574320" cy="560880"/>
              </a:xfrm>
              <a:prstGeom prst="rect">
                <a:avLst/>
              </a:prstGeom>
              <a:gradFill rotWithShape="0">
                <a:gsLst>
                  <a:gs pos="0">
                    <a:srgbClr val="5ef0f7"/>
                  </a:gs>
                  <a:gs pos="100000">
                    <a:srgbClr val="22868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  <a:ea typeface="Arial"/>
                  </a:rPr>
                  <a:t>Принятие Советом народных депутатов городского поселения – город Павловск решения о  бюджете городского поселения – город Павловск на очередной финансовый   год и плановый период.         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23" name="Штриховая стрелка вправо 16"/>
            <p:cNvGrpSpPr/>
            <p:nvPr/>
          </p:nvGrpSpPr>
          <p:grpSpPr>
            <a:xfrm>
              <a:off x="357120" y="1357200"/>
              <a:ext cx="1679400" cy="703440"/>
              <a:chOff x="357120" y="1357200"/>
              <a:chExt cx="1679400" cy="703440"/>
            </a:xfrm>
          </p:grpSpPr>
          <p:pic>
            <p:nvPicPr>
              <p:cNvPr id="224" name="Штриховая стрелка вправо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57120" y="1357200"/>
                <a:ext cx="1679400" cy="70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473040" y="1549800"/>
                <a:ext cx="137952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Май-июнь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26" name="Штриховая стрелка вправо 17"/>
            <p:cNvGrpSpPr/>
            <p:nvPr/>
          </p:nvGrpSpPr>
          <p:grpSpPr>
            <a:xfrm>
              <a:off x="357120" y="1988640"/>
              <a:ext cx="1679400" cy="709560"/>
              <a:chOff x="357120" y="1988640"/>
              <a:chExt cx="1679400" cy="709560"/>
            </a:xfrm>
          </p:grpSpPr>
          <p:pic>
            <p:nvPicPr>
              <p:cNvPr id="227" name="Штриховая стрелка вправо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357120" y="1988640"/>
                <a:ext cx="1679400" cy="7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473040" y="2183760"/>
                <a:ext cx="137952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Июль 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29" name="Штриховая стрелка вправо 18"/>
            <p:cNvGrpSpPr/>
            <p:nvPr/>
          </p:nvGrpSpPr>
          <p:grpSpPr>
            <a:xfrm>
              <a:off x="357120" y="2692440"/>
              <a:ext cx="1679400" cy="709560"/>
              <a:chOff x="357120" y="2692440"/>
              <a:chExt cx="1679400" cy="709560"/>
            </a:xfrm>
          </p:grpSpPr>
          <p:pic>
            <p:nvPicPr>
              <p:cNvPr id="230" name="Штриховая стрелка вправо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357120" y="2692440"/>
                <a:ext cx="1679400" cy="7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473040" y="2889000"/>
                <a:ext cx="137952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Июль-сентябрь 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32" name="Штриховая стрелка вправо 19"/>
            <p:cNvGrpSpPr/>
            <p:nvPr/>
          </p:nvGrpSpPr>
          <p:grpSpPr>
            <a:xfrm>
              <a:off x="357120" y="3402360"/>
              <a:ext cx="1679400" cy="703440"/>
              <a:chOff x="357120" y="3402360"/>
              <a:chExt cx="1679400" cy="703440"/>
            </a:xfrm>
          </p:grpSpPr>
          <p:pic>
            <p:nvPicPr>
              <p:cNvPr id="233" name="Штриховая стрелка вправо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357120" y="3402360"/>
                <a:ext cx="1679400" cy="70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473040" y="3593880"/>
                <a:ext cx="137952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Начало ноября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35" name="Штриховая стрелка вправо 20"/>
            <p:cNvGrpSpPr/>
            <p:nvPr/>
          </p:nvGrpSpPr>
          <p:grpSpPr>
            <a:xfrm>
              <a:off x="357120" y="4244400"/>
              <a:ext cx="1679400" cy="709560"/>
              <a:chOff x="357120" y="4244400"/>
              <a:chExt cx="1679400" cy="709560"/>
            </a:xfrm>
          </p:grpSpPr>
          <p:pic>
            <p:nvPicPr>
              <p:cNvPr id="236" name="Штриховая стрелка вправо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357120" y="4244400"/>
                <a:ext cx="1679400" cy="7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473040" y="4439880"/>
                <a:ext cx="137952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Середина ноября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38" name="Штриховая стрелка вправо 21"/>
            <p:cNvGrpSpPr/>
            <p:nvPr/>
          </p:nvGrpSpPr>
          <p:grpSpPr>
            <a:xfrm>
              <a:off x="357120" y="5724000"/>
              <a:ext cx="1752120" cy="848160"/>
              <a:chOff x="357120" y="5724000"/>
              <a:chExt cx="1752120" cy="848160"/>
            </a:xfrm>
          </p:grpSpPr>
          <p:pic>
            <p:nvPicPr>
              <p:cNvPr id="239" name="Штриховая стрелка вправо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357120" y="5724000"/>
                <a:ext cx="175212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>
                <a:off x="495360" y="5955120"/>
                <a:ext cx="1392480" cy="38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Третья декада декабря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41" name="Rectangle 4"/>
          <p:cNvSpPr/>
          <p:nvPr/>
        </p:nvSpPr>
        <p:spPr>
          <a:xfrm>
            <a:off x="1428840" y="421200"/>
            <a:ext cx="600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Arial"/>
              </a:rPr>
              <a:t>Основные этапы подготовки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Arial"/>
              </a:rPr>
              <a:t> бюджета городского поселения – город Павловс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2" name="Штриховая стрелка вправо 25"/>
          <p:cNvGrpSpPr/>
          <p:nvPr/>
        </p:nvGrpSpPr>
        <p:grpSpPr>
          <a:xfrm>
            <a:off x="341280" y="5035680"/>
            <a:ext cx="1682640" cy="718920"/>
            <a:chOff x="341280" y="5035680"/>
            <a:chExt cx="1682640" cy="718920"/>
          </a:xfrm>
        </p:grpSpPr>
        <p:pic>
          <p:nvPicPr>
            <p:cNvPr id="243" name="Штриховая стрелка вправо 25" descr=""/>
            <p:cNvPicPr/>
            <p:nvPr/>
          </p:nvPicPr>
          <p:blipFill>
            <a:blip r:embed="rId9"/>
            <a:stretch/>
          </p:blipFill>
          <p:spPr>
            <a:xfrm>
              <a:off x="341280" y="5035680"/>
              <a:ext cx="16826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57200" y="5232240"/>
              <a:ext cx="13827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Середина декабря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45" name="Rectangle 8"/>
          <p:cNvSpPr/>
          <p:nvPr/>
        </p:nvSpPr>
        <p:spPr>
          <a:xfrm>
            <a:off x="2071800" y="5143680"/>
            <a:ext cx="6643440" cy="571320"/>
          </a:xfrm>
          <a:prstGeom prst="rect">
            <a:avLst/>
          </a:prstGeom>
          <a:gradFill rotWithShape="0">
            <a:gsLst>
              <a:gs pos="0">
                <a:srgbClr val="5ef0f7"/>
              </a:gs>
              <a:gs pos="100000">
                <a:srgbClr val="2cb0b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  <a:ea typeface="Arial"/>
              </a:rPr>
              <a:t>Проведение публичных слушаний по вопросу принятия проекта решения о бюджете городского поселения – город Павловск на очередной финансовый год и плановый период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"/>
          <p:cNvSpPr/>
          <p:nvPr/>
        </p:nvSpPr>
        <p:spPr>
          <a:xfrm>
            <a:off x="714240" y="5219640"/>
            <a:ext cx="7858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роект бюджета сформирован по программно–целевому принцип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сего на данный момент  разработаны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1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муниципальных программ 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1714680" y="39024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Составление проекта бюджет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городского поселения – город Павловс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50920" y="1700280"/>
          <a:ext cx="8604000" cy="3228840"/>
        </p:xfrm>
        <a:graphic>
          <a:graphicData uri="http://schemas.openxmlformats.org/drawingml/2006/table">
            <a:tbl>
              <a:tblPr/>
              <a:tblGrid>
                <a:gridCol w="2151000"/>
                <a:gridCol w="2151000"/>
                <a:gridCol w="2000160"/>
                <a:gridCol w="2301840"/>
              </a:tblGrid>
              <a:tr h="7038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ставление проекта бюджета городского поселения – город Павловск основывается на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Бюджетном послании Президента Российской Фед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Прогнозе социально-экономическо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вития городского поселения -город Павловс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Основныех направлениях бюджетной и налоговой поли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Государственных (муниципальных программах)    Воронежской области и городского посе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1116000" y="2143080"/>
          <a:ext cx="7559640" cy="2925720"/>
        </p:xfrm>
        <a:graphic>
          <a:graphicData uri="http://schemas.openxmlformats.org/drawingml/2006/table">
            <a:tbl>
              <a:tblPr/>
              <a:tblGrid>
                <a:gridCol w="2376360"/>
                <a:gridCol w="1800360"/>
                <a:gridCol w="1727280"/>
                <a:gridCol w="1655640"/>
              </a:tblGrid>
              <a:tr h="488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РО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год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РО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5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год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РО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</a:tr>
              <a:tr h="292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ДОХОДЫ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6417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57940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5510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</a:tr>
              <a:tr h="336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</a:tr>
              <a:tr h="56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Налоговые и неналогов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8939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9547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0159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</a:tr>
              <a:tr h="488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238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393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50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РАСХОДЫ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6506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57940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5510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Дефицит (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--89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50" name="Rectangle 4"/>
          <p:cNvSpPr/>
          <p:nvPr/>
        </p:nvSpPr>
        <p:spPr>
          <a:xfrm>
            <a:off x="500040" y="71604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Основные параметры бюджет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городского поселения – город Павловс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7286760" y="17859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тыс.руб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Налог на доходы физических лиц</a:t>
            </a:r>
            <a:br>
              <a:rPr sz="2200"/>
            </a:b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 соответствии со ст. 218-220 главы 23 Налогового кодекса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Российской Федерации предоставляются налоговые вычеты, в том числе: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Схема 12" descr=""/>
          <p:cNvPicPr/>
          <p:nvPr/>
        </p:nvPicPr>
        <p:blipFill>
          <a:blip r:embed="rId2"/>
          <a:stretch/>
        </p:blipFill>
        <p:spPr>
          <a:xfrm>
            <a:off x="353880" y="1523880"/>
            <a:ext cx="84297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42600"/>
            <a:ext cx="694368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ДОРОЖНЫЙ ФОН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Схема 8" descr=""/>
          <p:cNvPicPr/>
          <p:nvPr/>
        </p:nvPicPr>
        <p:blipFill>
          <a:blip r:embed="rId2"/>
          <a:stretch/>
        </p:blipFill>
        <p:spPr>
          <a:xfrm>
            <a:off x="628560" y="1133640"/>
            <a:ext cx="8223480" cy="5370480"/>
          </a:xfrm>
          <a:prstGeom prst="rect">
            <a:avLst/>
          </a:prstGeom>
          <a:ln w="0">
            <a:noFill/>
          </a:ln>
        </p:spPr>
      </p:pic>
      <p:grpSp>
        <p:nvGrpSpPr>
          <p:cNvPr id="257" name="Штриховая стрелка вправо 9"/>
          <p:cNvGrpSpPr/>
          <p:nvPr/>
        </p:nvGrpSpPr>
        <p:grpSpPr>
          <a:xfrm>
            <a:off x="4413240" y="2322360"/>
            <a:ext cx="781200" cy="536760"/>
            <a:chOff x="4413240" y="2322360"/>
            <a:chExt cx="781200" cy="536760"/>
          </a:xfrm>
        </p:grpSpPr>
        <p:pic>
          <p:nvPicPr>
            <p:cNvPr id="258" name="Штриховая стрелка вправо 9" descr=""/>
            <p:cNvPicPr/>
            <p:nvPr/>
          </p:nvPicPr>
          <p:blipFill>
            <a:blip r:embed="rId3"/>
            <a:stretch/>
          </p:blipFill>
          <p:spPr>
            <a:xfrm>
              <a:off x="4413240" y="2322360"/>
              <a:ext cx="781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 rot="16200000">
              <a:off x="4687920" y="2421000"/>
              <a:ext cx="23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0" name="Штриховая стрелка вправо 10"/>
          <p:cNvGrpSpPr/>
          <p:nvPr/>
        </p:nvGrpSpPr>
        <p:grpSpPr>
          <a:xfrm>
            <a:off x="4406760" y="4035600"/>
            <a:ext cx="830520" cy="506160"/>
            <a:chOff x="4406760" y="4035600"/>
            <a:chExt cx="830520" cy="506160"/>
          </a:xfrm>
        </p:grpSpPr>
        <p:pic>
          <p:nvPicPr>
            <p:cNvPr id="261" name="Штриховая стрелка вправо 10" descr=""/>
            <p:cNvPicPr/>
            <p:nvPr/>
          </p:nvPicPr>
          <p:blipFill>
            <a:blip r:embed="rId4"/>
            <a:stretch/>
          </p:blipFill>
          <p:spPr>
            <a:xfrm>
              <a:off x="4406760" y="4035600"/>
              <a:ext cx="83052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rot="5400000">
              <a:off x="4716720" y="4072680"/>
              <a:ext cx="211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285840"/>
            <a:ext cx="75009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Межбюджетные трансферты - основной вид безвозмездных перечислений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TextBox 7"/>
          <p:cNvSpPr/>
          <p:nvPr/>
        </p:nvSpPr>
        <p:spPr>
          <a:xfrm>
            <a:off x="3571920" y="1285920"/>
            <a:ext cx="51433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 Antiqua"/>
              </a:rPr>
              <a:t>Межбюджетные трансферты </a:t>
            </a:r>
            <a:r>
              <a:rPr b="0" lang="en-US" sz="1700" spc="-1" strike="noStrike">
                <a:solidFill>
                  <a:srgbClr val="000000"/>
                </a:solidFill>
                <a:latin typeface="Book Antiqua"/>
              </a:rPr>
              <a:t>– это денежные средства, перечисляемые из одного бюджета бюджетной системы Российской Федерации другому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755640" y="2786040"/>
          <a:ext cx="8064000" cy="2847960"/>
        </p:xfrm>
        <a:graphic>
          <a:graphicData uri="http://schemas.openxmlformats.org/drawingml/2006/table">
            <a:tbl>
              <a:tblPr/>
              <a:tblGrid>
                <a:gridCol w="4140000"/>
                <a:gridCol w="3924000"/>
              </a:tblGrid>
              <a:tr h="556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иды межбюджетных трансфер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</a:tr>
              <a:tr h="5104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тации</a:t>
                      </a:r>
                      <a:br>
                        <a:rPr sz="1500"/>
                      </a:b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(от лат. "dotatio" - дар, пожертвование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marL="82440" indent="451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едоставляются без определе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я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онкретной цели их использовани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</a:tr>
              <a:tr h="9208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убвенции  </a:t>
                      </a:r>
                      <a:br>
                        <a:rPr sz="1500"/>
                      </a:b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(от лат. "subvenre" - приходить на помощь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marL="82440" indent="451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едоставляются на финансирование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"переданных" другим публично-правовым образованиям полномоч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</a:tr>
              <a:tr h="6926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убсидии </a:t>
                      </a:r>
                      <a:br>
                        <a:rPr sz="1500"/>
                      </a:b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от лат. "subsidium" - поддержк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marL="82440" indent="451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едоставляются на условиях долевого софинансирования расходов других бюджето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66" name="Picture 1" descr="D:\Документы\2014\Задания отчеты\Исполненеие бюджета\78319827.jpg"/>
          <p:cNvPicPr/>
          <p:nvPr/>
        </p:nvPicPr>
        <p:blipFill>
          <a:blip r:embed="rId2"/>
          <a:stretch/>
        </p:blipFill>
        <p:spPr>
          <a:xfrm>
            <a:off x="1428840" y="1141560"/>
            <a:ext cx="14288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08:51:20Z</dcterms:created>
  <dc:creator>user1</dc:creator>
  <dc:description/>
  <dc:language>en-US</dc:language>
  <cp:lastModifiedBy>Glbuh</cp:lastModifiedBy>
  <dcterms:modified xsi:type="dcterms:W3CDTF">2022-12-09T07:02:31Z</dcterms:modified>
  <cp:revision>296</cp:revision>
  <dc:subject/>
  <dc:title>Слайд 1</dc:title>
</cp:coreProperties>
</file>