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8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951-8D30-4133-9BB6-B328ED3DDD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B2B8-9E8F-4470-A597-F736964349F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EAC8-DD4B-4C82-B6F9-1181863475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F29B-64FA-4E73-8B75-C39EE09929C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949-C58F-4314-91CE-8028C52E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34E-27B8-4207-97EC-6D7D60C9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929-532F-400D-888B-5AA63021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630-136B-465E-BC81-F9B467A6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DBEE-E581-4138-8629-88F3CD24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61DA-ADF8-47CB-9E85-92EA40A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B0B4-1486-4D4A-9ADF-8093AC43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C217-72C1-477C-9B8A-C912E025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5AB7-E47E-4B68-B047-561F8033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5EE5-D280-4681-B9CC-6D506935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063B-5D3A-4ACB-ABCB-84600CF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A40-F88B-423F-B29F-F09B85E0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4D9B-7F17-48B7-AA00-8E2F9FA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8F95-E2C7-4EC2-B10B-751A544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0B16-7DFD-47F3-A2BB-29D5A614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6F48-0709-4542-8974-37BCAEAA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07BD-0FC4-4E0A-985B-A27FA492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2371-384B-4E2B-8844-7BB09A32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33E2-02BC-4B62-8510-3863FA71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29D47-8DA8-44E1-83CC-93C9A733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91BF-1AA5-44E4-B2C2-4C6B13F0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A46B-FDC5-4E95-8B45-89FB9637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908-B746-4CEE-A93B-96C07154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0C33-ED49-4171-94B2-5B246185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D0E5-B40B-4509-9FA1-46BFEFDC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6495-9E17-496A-A81C-B7C851E0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C861-BDCA-4325-98C9-ED2E304F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ADC2-DE21-46AB-935B-F5E29207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A530-A807-451F-A61F-7EE48D4B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1FAD-DE2F-4CCC-B32F-41B402B2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224D-A750-4563-A790-8D1F819A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B45CB-124E-4648-80AE-852B13BE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CCB46-26F2-48AC-8F68-F76E904A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166-BF8F-4994-A8EA-83E51EA6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AC53-9BB6-4A5B-B484-82DB142E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81AE-8BD5-4930-B057-DEC9766F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99CF-D4A4-472C-8D97-1E4590DD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8DE3-F6D8-420D-954D-5B5EBCD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E7C7-1CE1-4B91-82BE-F4E0E792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E034-E591-43A2-89F2-F95C9576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D2416-148A-4D41-AF8F-C06C78A7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DC3D-466D-4877-BB7B-5B9C3E14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5BB1-E44E-4A05-A35E-92D77041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E6A-4B53-4630-9BBE-919A18A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334-DD9D-4A51-B634-70029C6E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839-E7CC-499F-9DEC-3433786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37A-F56F-48F0-A70C-07B082DC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933-0952-429A-82B8-EB0091E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F5AC-903A-423C-B91E-D5D88F652A2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F5B2-D0B7-476D-9AEF-941148704E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A22E-E94F-422F-9E93-1BE93295E3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2F61-FAF8-4A2C-B918-3025CD420E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9640" y="170028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Бюджет для гражда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301608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проекту Реше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та народных депутатов городского поселения – город Павловс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б утверждении бюджета городского поселения – город Павловск на 2022 год и плановый период 2023 и 2024 годов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Понятие и типы расходных обязательств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Расходное обязательство – это обязанность выплатить денежные средства из соответствующего бюджета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Таблица 3" descr=""/>
          <p:cNvPicPr/>
          <p:nvPr/>
        </p:nvPicPr>
        <p:blipFill>
          <a:blip r:embed="rId1"/>
          <a:stretch/>
        </p:blipFill>
        <p:spPr>
          <a:xfrm>
            <a:off x="566640" y="2000160"/>
            <a:ext cx="82915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857160" y="785880"/>
            <a:ext cx="750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 Antiqua"/>
              </a:rPr>
              <a:t>Расходы бюджет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 Antiqua"/>
              </a:rPr>
              <a:t>Расходы бюджета – это выплачиваемые из бюджета денежные средства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Схема 18" descr=""/>
          <p:cNvPicPr/>
          <p:nvPr/>
        </p:nvPicPr>
        <p:blipFill>
          <a:blip r:embed="rId1"/>
          <a:stretch/>
        </p:blipFill>
        <p:spPr>
          <a:xfrm>
            <a:off x="858960" y="1639800"/>
            <a:ext cx="76388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сходы бюджет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чиваемые из бюджета денежные средства, за исключением средств, являющихся источниками дефицита бюдже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асходо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соответствии с расходными обязательствами, обусловленными установленным законодательством разграничением полномочий, исполнение которых должно происходить в очередном финансовом году за счет средств соответствующих бюдже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формирования расходов бюдж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дела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домства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униципальным программа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Скругленный прямоугольник 3"/>
          <p:cNvSpPr/>
          <p:nvPr/>
        </p:nvSpPr>
        <p:spPr>
          <a:xfrm>
            <a:off x="142920" y="3857760"/>
            <a:ext cx="8858160" cy="357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ы классификации расходов бюджет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Скругленный прямоугольник 4"/>
          <p:cNvSpPr/>
          <p:nvPr/>
        </p:nvSpPr>
        <p:spPr>
          <a:xfrm>
            <a:off x="468360" y="4508640"/>
            <a:ext cx="1000080" cy="928440"/>
          </a:xfrm>
          <a:prstGeom prst="roundRect">
            <a:avLst>
              <a:gd name="adj" fmla="val 16667"/>
            </a:avLst>
          </a:prstGeom>
          <a:solidFill>
            <a:srgbClr val="ff88ba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  <a:ea typeface="Arial"/>
              </a:rPr>
              <a:t>01 «Общегос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-д</a:t>
            </a:r>
            <a:r>
              <a:rPr b="0" lang="ru-RU" sz="1000" spc="-1" strike="noStrike">
                <a:solidFill>
                  <a:srgbClr val="000000"/>
                </a:solidFill>
                <a:latin typeface="Cambria"/>
                <a:ea typeface="Arial"/>
              </a:rPr>
              <a:t>арственные вопросы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Скругленный прямоугольник 7"/>
          <p:cNvSpPr/>
          <p:nvPr/>
        </p:nvSpPr>
        <p:spPr>
          <a:xfrm>
            <a:off x="5651640" y="5373720"/>
            <a:ext cx="1285560" cy="785880"/>
          </a:xfrm>
          <a:prstGeom prst="roundRect">
            <a:avLst>
              <a:gd name="adj" fmla="val 16667"/>
            </a:avLst>
          </a:prstGeom>
          <a:solidFill>
            <a:srgbClr val="ab0043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08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«Культура , кинематография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Скругленный прямоугольник 8"/>
          <p:cNvSpPr/>
          <p:nvPr/>
        </p:nvSpPr>
        <p:spPr>
          <a:xfrm>
            <a:off x="1835280" y="4581360"/>
            <a:ext cx="1214280" cy="9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03 «Национальная безопасность и правоохранительная деятельность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Скругленный прямоугольник 10"/>
          <p:cNvSpPr/>
          <p:nvPr/>
        </p:nvSpPr>
        <p:spPr>
          <a:xfrm>
            <a:off x="3132000" y="5445000"/>
            <a:ext cx="1289160" cy="64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04 «Национальная экономика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Скругленный прямоугольник 12"/>
          <p:cNvSpPr/>
          <p:nvPr/>
        </p:nvSpPr>
        <p:spPr>
          <a:xfrm>
            <a:off x="6659640" y="4437000"/>
            <a:ext cx="1143000" cy="785880"/>
          </a:xfrm>
          <a:prstGeom prst="roundRect">
            <a:avLst>
              <a:gd name="adj" fmla="val 16667"/>
            </a:avLst>
          </a:prstGeom>
          <a:solidFill>
            <a:srgbClr val="ff8eba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«Социальная политика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Скругленный прямоугольник 13"/>
          <p:cNvSpPr/>
          <p:nvPr/>
        </p:nvSpPr>
        <p:spPr>
          <a:xfrm>
            <a:off x="4356000" y="4508640"/>
            <a:ext cx="1224000" cy="928440"/>
          </a:xfrm>
          <a:prstGeom prst="roundRect">
            <a:avLst>
              <a:gd name="adj" fmla="val 16667"/>
            </a:avLst>
          </a:prstGeom>
          <a:solidFill>
            <a:srgbClr val="2c71ff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05 «Жилищно-коммунальное хозяйство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Скругленный прямоугольник 16"/>
          <p:cNvSpPr/>
          <p:nvPr/>
        </p:nvSpPr>
        <p:spPr>
          <a:xfrm>
            <a:off x="7451640" y="5373720"/>
            <a:ext cx="1441440" cy="1069920"/>
          </a:xfrm>
          <a:prstGeom prst="roundRect">
            <a:avLst>
              <a:gd name="adj" fmla="val 16667"/>
            </a:avLst>
          </a:prstGeom>
          <a:solidFill>
            <a:srgbClr val="ed1fd4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13 «Обслуживание государственного и муниципального долга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Прямая соединительная линия 24"/>
          <p:cNvSpPr/>
          <p:nvPr/>
        </p:nvSpPr>
        <p:spPr>
          <a:xfrm flipH="1">
            <a:off x="6300720" y="4221000"/>
            <a:ext cx="7920" cy="115272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Прямая соединительная линия 26"/>
          <p:cNvSpPr/>
          <p:nvPr/>
        </p:nvSpPr>
        <p:spPr>
          <a:xfrm flipH="1">
            <a:off x="971640" y="4221000"/>
            <a:ext cx="1440" cy="287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Прямая соединительная линия 30"/>
          <p:cNvSpPr/>
          <p:nvPr/>
        </p:nvSpPr>
        <p:spPr>
          <a:xfrm>
            <a:off x="2411280" y="4221000"/>
            <a:ext cx="0" cy="36036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Прямая соединительная линия 32"/>
          <p:cNvSpPr/>
          <p:nvPr/>
        </p:nvSpPr>
        <p:spPr>
          <a:xfrm flipH="1">
            <a:off x="5003280" y="4221000"/>
            <a:ext cx="1800" cy="287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Прямая соединительная линия 41"/>
          <p:cNvSpPr/>
          <p:nvPr/>
        </p:nvSpPr>
        <p:spPr>
          <a:xfrm flipH="1">
            <a:off x="3708000" y="4221000"/>
            <a:ext cx="1800" cy="1214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Прямая соединительная линия 43"/>
          <p:cNvSpPr/>
          <p:nvPr/>
        </p:nvSpPr>
        <p:spPr>
          <a:xfrm flipH="1">
            <a:off x="7236000" y="4221000"/>
            <a:ext cx="2880" cy="2160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Прямая соединительная линия 51"/>
          <p:cNvSpPr/>
          <p:nvPr/>
        </p:nvSpPr>
        <p:spPr>
          <a:xfrm flipH="1">
            <a:off x="8244000" y="4221000"/>
            <a:ext cx="1440" cy="115272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43912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f6fc6"/>
                </a:solidFill>
                <a:latin typeface="Times New Roman"/>
              </a:rPr>
              <a:t>РАСХОДЫ  БЮДЖЕТА в 2022-2024 г.г.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1125360"/>
          <a:ext cx="8496000" cy="5607360"/>
        </p:xfrm>
        <a:graphic>
          <a:graphicData uri="http://schemas.openxmlformats.org/drawingml/2006/table">
            <a:tbl>
              <a:tblPr/>
              <a:tblGrid>
                <a:gridCol w="5140080"/>
                <a:gridCol w="1141560"/>
                <a:gridCol w="1141200"/>
                <a:gridCol w="1073160"/>
              </a:tblGrid>
              <a:tr h="728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ы на реализацию муниципальных  программ,                            в том числе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2 год прое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3 год прое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е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. Муниципальная программа «Эффективная власть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750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991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918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88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2. Муниципальная программа «Безопасность городского поселения – город Павловск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. Муниципальная програм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Обеспечение градостроительной деятельности на территории городского поселения – город Павловс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4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4. Муниципальная програм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Развитие транспортной системы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71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803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826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5. Муниципальная программа «Обеспечение доступным и комфортным жильем и комфортными услугами  населения городского поселения – город Павловс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42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1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6. Муниципальная программа «Благоустройство городского поселения – город Павловск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2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3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497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7.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Муниципальная программа «Формирование современной городской среды на 2018-2024 годы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942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960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00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.Муниципальная целевая программа "Обеспечение качественными жилищно-коммунальными услугами населения Воронежской области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6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290" name="Rectangle 1"/>
          <p:cNvSpPr/>
          <p:nvPr/>
        </p:nvSpPr>
        <p:spPr>
          <a:xfrm>
            <a:off x="4256280" y="74880"/>
            <a:ext cx="63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ефицит и профицит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Содержимое 2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515440" cy="4032360"/>
          </a:xfrm>
          <a:prstGeom prst="rect">
            <a:avLst/>
          </a:prstGeom>
          <a:ln w="0">
            <a:noFill/>
          </a:ln>
        </p:spPr>
      </p:pic>
      <p:grpSp>
        <p:nvGrpSpPr>
          <p:cNvPr id="293" name="Скругленный прямоугольник 4"/>
          <p:cNvGrpSpPr/>
          <p:nvPr/>
        </p:nvGrpSpPr>
        <p:grpSpPr>
          <a:xfrm>
            <a:off x="695160" y="1695600"/>
            <a:ext cx="3748320" cy="2238120"/>
            <a:chOff x="695160" y="1695600"/>
            <a:chExt cx="3748320" cy="2238120"/>
          </a:xfrm>
        </p:grpSpPr>
        <p:pic>
          <p:nvPicPr>
            <p:cNvPr id="294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695160" y="1695600"/>
              <a:ext cx="374832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53920" y="1818360"/>
              <a:ext cx="343548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6" name="Скругленный прямоугольник 5"/>
          <p:cNvGrpSpPr/>
          <p:nvPr/>
        </p:nvGrpSpPr>
        <p:grpSpPr>
          <a:xfrm>
            <a:off x="4979880" y="1695600"/>
            <a:ext cx="3676680" cy="2238120"/>
            <a:chOff x="4979880" y="1695600"/>
            <a:chExt cx="3676680" cy="2238120"/>
          </a:xfrm>
        </p:grpSpPr>
        <p:pic>
          <p:nvPicPr>
            <p:cNvPr id="29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979880" y="1695600"/>
              <a:ext cx="367668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140440" y="1818360"/>
              <a:ext cx="336384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9" name="Скругленный прямоугольник 6"/>
          <p:cNvGrpSpPr/>
          <p:nvPr/>
        </p:nvGrpSpPr>
        <p:grpSpPr>
          <a:xfrm>
            <a:off x="749160" y="1536840"/>
            <a:ext cx="3640320" cy="493560"/>
            <a:chOff x="749160" y="1536840"/>
            <a:chExt cx="3640320" cy="493560"/>
          </a:xfrm>
        </p:grpSpPr>
        <p:pic>
          <p:nvPicPr>
            <p:cNvPr id="300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749160" y="1536840"/>
              <a:ext cx="36403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806400" y="1592280"/>
              <a:ext cx="3530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2" name="Скругленный прямоугольник 7"/>
          <p:cNvGrpSpPr/>
          <p:nvPr/>
        </p:nvGrpSpPr>
        <p:grpSpPr>
          <a:xfrm>
            <a:off x="5048280" y="1474920"/>
            <a:ext cx="3541680" cy="469800"/>
            <a:chOff x="5048280" y="1474920"/>
            <a:chExt cx="3541680" cy="469800"/>
          </a:xfrm>
        </p:grpSpPr>
        <p:pic>
          <p:nvPicPr>
            <p:cNvPr id="303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048280" y="1474920"/>
              <a:ext cx="3541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092560" y="1521000"/>
              <a:ext cx="34592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профицит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5" name="Скругленный прямоугольник 8"/>
          <p:cNvGrpSpPr/>
          <p:nvPr/>
        </p:nvGrpSpPr>
        <p:grpSpPr>
          <a:xfrm>
            <a:off x="981000" y="2193840"/>
            <a:ext cx="3176640" cy="604800"/>
            <a:chOff x="981000" y="2193840"/>
            <a:chExt cx="3176640" cy="604800"/>
          </a:xfrm>
        </p:grpSpPr>
        <p:pic>
          <p:nvPicPr>
            <p:cNvPr id="306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981000" y="2193840"/>
              <a:ext cx="31766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028880" y="2243160"/>
              <a:ext cx="3085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акопленные резервы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8" name="Скругленный прямоугольник 9"/>
          <p:cNvGrpSpPr/>
          <p:nvPr/>
        </p:nvGrpSpPr>
        <p:grpSpPr>
          <a:xfrm>
            <a:off x="981000" y="2981160"/>
            <a:ext cx="3176640" cy="743040"/>
            <a:chOff x="981000" y="2981160"/>
            <a:chExt cx="3176640" cy="743040"/>
          </a:xfrm>
        </p:grpSpPr>
        <p:pic>
          <p:nvPicPr>
            <p:cNvPr id="309" name="Скругленный 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981000" y="2981160"/>
              <a:ext cx="3176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035000" y="3035160"/>
              <a:ext cx="30733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униципаль</a:t>
              </a: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ый долг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11" name="Скругленный прямоугольник 10"/>
          <p:cNvGrpSpPr/>
          <p:nvPr/>
        </p:nvGrpSpPr>
        <p:grpSpPr>
          <a:xfrm>
            <a:off x="5340240" y="2127240"/>
            <a:ext cx="2955960" cy="596880"/>
            <a:chOff x="5340240" y="2127240"/>
            <a:chExt cx="2955960" cy="596880"/>
          </a:xfrm>
        </p:grpSpPr>
        <p:pic>
          <p:nvPicPr>
            <p:cNvPr id="312" name="Скругленный 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5340240" y="2127240"/>
              <a:ext cx="29559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386320" y="2171880"/>
              <a:ext cx="28717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акопленные резервы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14" name="Скругленный прямоугольник 11"/>
          <p:cNvGrpSpPr/>
          <p:nvPr/>
        </p:nvGrpSpPr>
        <p:grpSpPr>
          <a:xfrm>
            <a:off x="5340240" y="3054240"/>
            <a:ext cx="2955960" cy="669960"/>
            <a:chOff x="5340240" y="3054240"/>
            <a:chExt cx="2955960" cy="669960"/>
          </a:xfrm>
        </p:grpSpPr>
        <p:pic>
          <p:nvPicPr>
            <p:cNvPr id="315" name="Скругленный 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5340240" y="3054240"/>
              <a:ext cx="29559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389560" y="3103560"/>
              <a:ext cx="286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униципаль</a:t>
              </a: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ый долг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17" name="Стрелка вниз 12"/>
          <p:cNvGrpSpPr/>
          <p:nvPr/>
        </p:nvGrpSpPr>
        <p:grpSpPr>
          <a:xfrm>
            <a:off x="3535200" y="2335320"/>
            <a:ext cx="347760" cy="328680"/>
            <a:chOff x="3535200" y="2335320"/>
            <a:chExt cx="347760" cy="328680"/>
          </a:xfrm>
        </p:grpSpPr>
        <p:pic>
          <p:nvPicPr>
            <p:cNvPr id="318" name="Стрелка вниз 12" descr=""/>
            <p:cNvPicPr/>
            <p:nvPr/>
          </p:nvPicPr>
          <p:blipFill>
            <a:blip r:embed="rId11"/>
            <a:stretch/>
          </p:blipFill>
          <p:spPr>
            <a:xfrm>
              <a:off x="3535200" y="2335320"/>
              <a:ext cx="3477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643200" y="2357280"/>
              <a:ext cx="1429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20" name="Стрелка вверх 13"/>
          <p:cNvGrpSpPr/>
          <p:nvPr/>
        </p:nvGrpSpPr>
        <p:grpSpPr>
          <a:xfrm>
            <a:off x="3535200" y="3114720"/>
            <a:ext cx="347760" cy="403200"/>
            <a:chOff x="3535200" y="3114720"/>
            <a:chExt cx="347760" cy="403200"/>
          </a:xfrm>
        </p:grpSpPr>
        <p:pic>
          <p:nvPicPr>
            <p:cNvPr id="321" name="Стрелка вверх 13" descr=""/>
            <p:cNvPicPr/>
            <p:nvPr/>
          </p:nvPicPr>
          <p:blipFill>
            <a:blip r:embed="rId12"/>
            <a:stretch/>
          </p:blipFill>
          <p:spPr>
            <a:xfrm>
              <a:off x="3535200" y="3114720"/>
              <a:ext cx="347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23" name="Стрелка вверх 14"/>
          <p:cNvGrpSpPr/>
          <p:nvPr/>
        </p:nvGrpSpPr>
        <p:grpSpPr>
          <a:xfrm>
            <a:off x="7753320" y="2262240"/>
            <a:ext cx="274680" cy="328680"/>
            <a:chOff x="7753320" y="2262240"/>
            <a:chExt cx="274680" cy="328680"/>
          </a:xfrm>
        </p:grpSpPr>
        <p:pic>
          <p:nvPicPr>
            <p:cNvPr id="324" name="Стрелка вверх 14" descr=""/>
            <p:cNvPicPr/>
            <p:nvPr/>
          </p:nvPicPr>
          <p:blipFill>
            <a:blip r:embed="rId13"/>
            <a:stretch/>
          </p:blipFill>
          <p:spPr>
            <a:xfrm>
              <a:off x="7753320" y="2262240"/>
              <a:ext cx="2746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840800" y="2340000"/>
              <a:ext cx="1062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26" name="Стрелка вниз 15"/>
          <p:cNvGrpSpPr/>
          <p:nvPr/>
        </p:nvGrpSpPr>
        <p:grpSpPr>
          <a:xfrm>
            <a:off x="7753320" y="3187800"/>
            <a:ext cx="274680" cy="336600"/>
            <a:chOff x="7753320" y="3187800"/>
            <a:chExt cx="274680" cy="336600"/>
          </a:xfrm>
        </p:grpSpPr>
        <p:pic>
          <p:nvPicPr>
            <p:cNvPr id="327" name="Стрелка вниз 15" descr=""/>
            <p:cNvPicPr/>
            <p:nvPr/>
          </p:nvPicPr>
          <p:blipFill>
            <a:blip r:embed="rId14"/>
            <a:stretch/>
          </p:blipFill>
          <p:spPr>
            <a:xfrm>
              <a:off x="7753320" y="3187800"/>
              <a:ext cx="274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840800" y="3214800"/>
              <a:ext cx="1062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547640" y="5013360"/>
            <a:ext cx="64090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2 год – дефицит -7704,9  тыс. рубл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3 год – сбалансированный бюдж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4 год – сбалансированный бюдж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D:\РАБОТА - НАТАША\Администрация\Исполненеие бюджета\символы\32683507_shutterstock_11474659.jpg"/>
          <p:cNvPicPr/>
          <p:nvPr/>
        </p:nvPicPr>
        <p:blipFill>
          <a:blip r:embed="rId2"/>
          <a:stretch/>
        </p:blipFill>
        <p:spPr>
          <a:xfrm>
            <a:off x="7961400" y="687240"/>
            <a:ext cx="931680" cy="11638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1640" y="820800"/>
            <a:ext cx="32400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Глоссарий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285840" y="1268280"/>
            <a:ext cx="86072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Администратор доходов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.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.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 консолидированный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вод бюджетов бюджетной системы Российской Федерации на соответствующей территории (за исключением бюджетов государственных внебюджетных фондов). Консолидированным может быть бюджет на местном уровне (свод бюджета муниципального образования и бюджетов входящих в него поселений), региональном (свод бюджета субъекта Российской Федерации и бюджетов входящих в него муниципальных образований), федеральном (свод всех бюджетов бюджетной системы Российской Федерации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 муниципального образования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.Фонд денежных средств, предназначенный для финансирования функций, отнесенных к предметам ведения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.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ная роспись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Документ, который составляется и ведется: - Главным распорядителем бюджетных средств - в целях исполнения бюджета в части расходов; - Главным администратором источников финансирования дефицита бюджета - в целях исполнения бюджета в части источников финансирования дефицита бюджет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216036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Глоссарий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285840" y="1268280"/>
            <a:ext cx="860724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Г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Главный администратор доходов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имеющий(ее) в своем ведении администраторов доходов бюджет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Главный распорядитель бюджетных средств (ГРБС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или наиболее значимое учреждение науки, образования, культуры и здравоохранения, напрямую получающий(ее) средства из бюджета и наделенный правом распределять их между подведомственными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Д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Дефицит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Превышение расходов бюджета над его доходам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Дотац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Доходы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Межбюджетные трансферты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редства, предоставляемые одним бюджетом бюджетной системы РФ другому бюджету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Профицит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Превышение доходов бюджета над его расходам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5" name="Picture 3" descr="D:\РАБОТА - НАТАША\Администрация\Исполненеие бюджета\символы\32683507_shutterstock_11474659.jpg"/>
          <p:cNvPicPr/>
          <p:nvPr/>
        </p:nvPicPr>
        <p:blipFill>
          <a:blip r:embed="rId2"/>
          <a:stretch/>
        </p:blipFill>
        <p:spPr>
          <a:xfrm>
            <a:off x="7961400" y="608040"/>
            <a:ext cx="9316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216036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Глоссарий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285840" y="1268280"/>
            <a:ext cx="8607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Распорядитель бюджетных средств (РБС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или казенное учреждение, наделенный(ое) правом распределять полученные средства бюджета между подведомственными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Расходное обязательство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бязанность публично-правового образования предоставить физическому или юридическому лицу, иному уровню бюджета, международной организации средства из соответствующего бюджет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Расходы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Выплачиваемые из бюдже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Book Antiqua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Участник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Ф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Финансовый орган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На федеральном уровне - Министерство финансов Российской Федерации. На уровне субъекта РФ - органы исполнительной власти субъектов РФ, осуществляющие составление и организацию исполнения бюджетов субъектов РФ (министерства финансов, департаменты финансов, управления финансов и др.). На местном уровне - органы (должностные лица) местных администраций, осуществляющие составление и организацию исполнения местных бюджетов (департаменты финансов, управления финансов, финансовые отделы и др.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3" descr="D:\РАБОТА - НАТАША\Администрация\Исполненеие бюджета\символы\32683507_shutterstock_11474659.jpg"/>
          <p:cNvPicPr/>
          <p:nvPr/>
        </p:nvPicPr>
        <p:blipFill>
          <a:blip r:embed="rId2"/>
          <a:stretch/>
        </p:blipFill>
        <p:spPr>
          <a:xfrm>
            <a:off x="7961400" y="687240"/>
            <a:ext cx="931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f6fc6"/>
                </a:solidFill>
                <a:latin typeface="Times New Roman"/>
              </a:rPr>
              <a:t>Контактная информация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стонахождение администрации городского поселения – город Павловс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мкр.Северный, д. 23А,  г. Павловск,  Воронежская область, 39642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нтактный телефо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(47362) 7-02-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дрес электронной почт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vlg.pavl@govvrn.ru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рафик работы администра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недельник – пятница с 8-00 до 17-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рафик личного приема главы городского поселения – город Павловс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размещен на  официальном сайте администрации в сети «Интернет» по адресу:  http://pavlovskadmin.ru/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i5"/>
          <p:cNvPicPr/>
          <p:nvPr/>
        </p:nvPicPr>
        <p:blipFill>
          <a:blip r:embed="rId2"/>
          <a:stretch/>
        </p:blipFill>
        <p:spPr>
          <a:xfrm>
            <a:off x="285840" y="1571760"/>
            <a:ext cx="1143000" cy="1304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1619280" y="145440"/>
            <a:ext cx="695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нятие документа  «Бюджет для граждан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– это план доходов и расходов на определенный период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" descr="D:\Документы\2014\Задания отчеты\Исполненеие бюджета\фото для оформления\83562073.jpg"/>
          <p:cNvPicPr/>
          <p:nvPr/>
        </p:nvPicPr>
        <p:blipFill>
          <a:blip r:embed="rId3"/>
          <a:stretch/>
        </p:blipFill>
        <p:spPr>
          <a:xfrm>
            <a:off x="285840" y="464328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63640" y="1628640"/>
            <a:ext cx="691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едставленная информация предназначена для широкого круга пользователей и будет интересна и полезна различным категориям населения городского поселения – город Павловс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аждане – и как налогоплательщики, и как потребители общественных благ –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для каждого челове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ы постарались в доступной и понятной форме для граждан  показать основные параметры бюджет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D:\Документы\2014\Задания отчеты\Исполненеие бюджета\фото для оформления\6885.jpg"/>
          <p:cNvPicPr/>
          <p:nvPr/>
        </p:nvPicPr>
        <p:blipFill>
          <a:blip r:embed="rId2"/>
          <a:stretch/>
        </p:blipFill>
        <p:spPr>
          <a:xfrm>
            <a:off x="6313320" y="4309920"/>
            <a:ext cx="2428920" cy="1822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209" name=""/>
          <p:cNvGraphicFramePr/>
          <p:nvPr/>
        </p:nvGraphicFramePr>
        <p:xfrm>
          <a:off x="5143680" y="5715000"/>
          <a:ext cx="3886200" cy="579600"/>
        </p:xfrm>
        <a:graphic>
          <a:graphicData uri="http://schemas.openxmlformats.org/drawingml/2006/table">
            <a:tbl>
              <a:tblPr/>
              <a:tblGrid>
                <a:gridCol w="1485720"/>
                <a:gridCol w="2400480"/>
              </a:tblGrid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2"/>
          <p:cNvSpPr/>
          <p:nvPr/>
        </p:nvSpPr>
        <p:spPr>
          <a:xfrm>
            <a:off x="741240" y="1643760"/>
            <a:ext cx="8001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бязательное опубликование в средствах массовой информации утвержденных бюджетов и отчетов об их исполнен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оступность иных сведений о бюджета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бязательная открытость для общества и средств массовой информации проектов бюджетов, обеспечение доступа к информации на едином портале бюджетной системы Российской информации в сети «Интернет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еемственность бюджетной классификации Российской Федерации, а также обеспечение сопоставимости показателей бюджета отчетного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текущего и очередного финансового го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905040" y="4759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нцип прозрачности (открытости) бюджетной системы Российской Федерации означает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3214800" y="6143760"/>
            <a:ext cx="53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юджетный кодекс Российской Федерации, статья 3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Группа 22"/>
          <p:cNvGrpSpPr/>
          <p:nvPr/>
        </p:nvGrpSpPr>
        <p:grpSpPr>
          <a:xfrm>
            <a:off x="357120" y="1357200"/>
            <a:ext cx="8423280" cy="5214960"/>
            <a:chOff x="357120" y="1357200"/>
            <a:chExt cx="8423280" cy="5214960"/>
          </a:xfrm>
        </p:grpSpPr>
        <p:grpSp>
          <p:nvGrpSpPr>
            <p:cNvPr id="214" name="Группа 14"/>
            <p:cNvGrpSpPr/>
            <p:nvPr/>
          </p:nvGrpSpPr>
          <p:grpSpPr>
            <a:xfrm>
              <a:off x="2084040" y="1461600"/>
              <a:ext cx="6696360" cy="5004720"/>
              <a:chOff x="2084040" y="1461600"/>
              <a:chExt cx="6696360" cy="5004720"/>
            </a:xfrm>
          </p:grpSpPr>
          <p:grpSp>
            <p:nvGrpSpPr>
              <p:cNvPr id="215" name="Rectangle 2"/>
              <p:cNvGrpSpPr/>
              <p:nvPr/>
            </p:nvGrpSpPr>
            <p:grpSpPr>
              <a:xfrm>
                <a:off x="2084040" y="1461600"/>
                <a:ext cx="6696360" cy="520560"/>
                <a:chOff x="2084040" y="1461600"/>
                <a:chExt cx="6696360" cy="520560"/>
              </a:xfrm>
            </p:grpSpPr>
            <p:pic>
              <p:nvPicPr>
                <p:cNvPr id="216" name="Rectangl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84040" y="1461600"/>
                  <a:ext cx="669636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2113200" y="1487520"/>
                  <a:ext cx="66452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Book Antiqua"/>
                      <a:ea typeface="Arial"/>
                    </a:rPr>
                    <a:t>Определение основных подходов к формированию бюджета городского посе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18" name="Rectangle 4"/>
              <p:cNvSpPr/>
              <p:nvPr/>
            </p:nvSpPr>
            <p:spPr>
              <a:xfrm>
                <a:off x="2113200" y="2048760"/>
                <a:ext cx="6645240" cy="4204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afa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Основные показатели прогноза социально-экономического развития городского поселения – город Павловск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19" name="Rectangle 5"/>
              <p:cNvSpPr/>
              <p:nvPr/>
            </p:nvSpPr>
            <p:spPr>
              <a:xfrm>
                <a:off x="2113200" y="2749680"/>
                <a:ext cx="6645240" cy="4906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afa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Работа казенного учреждения и структурных подразделений администрации по подготовке и  обоснованию бюджетных ассигнований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0" name="Rectangle 6"/>
              <p:cNvSpPr/>
              <p:nvPr/>
            </p:nvSpPr>
            <p:spPr>
              <a:xfrm>
                <a:off x="2113200" y="3450960"/>
                <a:ext cx="6645240" cy="6310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afa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Одобрение главой городского поселения – город Павловск проекта решения Совета народных депутатов городского поселения – город Павловск о бюджете городского поселения – город Павловск на очередной финансовый год и плановый период.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1" name="Rectangle 8"/>
              <p:cNvSpPr/>
              <p:nvPr/>
            </p:nvSpPr>
            <p:spPr>
              <a:xfrm>
                <a:off x="2113200" y="4292640"/>
                <a:ext cx="6580800" cy="6310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b0b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Внесение главой городского поселения – город Павловск проекта решения Совета народных депутатов о бюджете городского поселения – город Павловск на рассмотрение в Совет  народных  депутатов городского поселения – город Павловск (не позднее  15 ноября)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22" name="Rectangle 9"/>
              <p:cNvSpPr/>
              <p:nvPr/>
            </p:nvSpPr>
            <p:spPr>
              <a:xfrm>
                <a:off x="2183760" y="5905440"/>
                <a:ext cx="6574320" cy="5608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2868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Принятие Советом народных депутатов городского поселения – город Павловск решения о  бюджете городского поселения – город Павловск на очередной финансовый   год и плановый период.        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23" name="Штриховая стрелка вправо 16"/>
            <p:cNvGrpSpPr/>
            <p:nvPr/>
          </p:nvGrpSpPr>
          <p:grpSpPr>
            <a:xfrm>
              <a:off x="357120" y="1357200"/>
              <a:ext cx="1679400" cy="703440"/>
              <a:chOff x="357120" y="1357200"/>
              <a:chExt cx="1679400" cy="703440"/>
            </a:xfrm>
          </p:grpSpPr>
          <p:pic>
            <p:nvPicPr>
              <p:cNvPr id="224" name="Штриховая стрелка вправо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57120" y="1357200"/>
                <a:ext cx="167940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473040" y="154980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Май-июнь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26" name="Штриховая стрелка вправо 17"/>
            <p:cNvGrpSpPr/>
            <p:nvPr/>
          </p:nvGrpSpPr>
          <p:grpSpPr>
            <a:xfrm>
              <a:off x="357120" y="1988640"/>
              <a:ext cx="1679400" cy="709560"/>
              <a:chOff x="357120" y="1988640"/>
              <a:chExt cx="1679400" cy="709560"/>
            </a:xfrm>
          </p:grpSpPr>
          <p:pic>
            <p:nvPicPr>
              <p:cNvPr id="227" name="Штриховая стрелка вправо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7120" y="1988640"/>
                <a:ext cx="16794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473040" y="218376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Июль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29" name="Штриховая стрелка вправо 18"/>
            <p:cNvGrpSpPr/>
            <p:nvPr/>
          </p:nvGrpSpPr>
          <p:grpSpPr>
            <a:xfrm>
              <a:off x="357120" y="2692440"/>
              <a:ext cx="1679400" cy="709560"/>
              <a:chOff x="357120" y="2692440"/>
              <a:chExt cx="1679400" cy="709560"/>
            </a:xfrm>
          </p:grpSpPr>
          <p:pic>
            <p:nvPicPr>
              <p:cNvPr id="230" name="Штриховая стрелка вправо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357120" y="2692440"/>
                <a:ext cx="16794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473040" y="288900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Июль-сентябрь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32" name="Штриховая стрелка вправо 19"/>
            <p:cNvGrpSpPr/>
            <p:nvPr/>
          </p:nvGrpSpPr>
          <p:grpSpPr>
            <a:xfrm>
              <a:off x="357120" y="3402360"/>
              <a:ext cx="1679400" cy="703440"/>
              <a:chOff x="357120" y="3402360"/>
              <a:chExt cx="1679400" cy="703440"/>
            </a:xfrm>
          </p:grpSpPr>
          <p:pic>
            <p:nvPicPr>
              <p:cNvPr id="233" name="Штриховая стрелка вправо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57120" y="3402360"/>
                <a:ext cx="167940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473040" y="359388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Начало ноября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35" name="Штриховая стрелка вправо 20"/>
            <p:cNvGrpSpPr/>
            <p:nvPr/>
          </p:nvGrpSpPr>
          <p:grpSpPr>
            <a:xfrm>
              <a:off x="357120" y="4244400"/>
              <a:ext cx="1679400" cy="709560"/>
              <a:chOff x="357120" y="4244400"/>
              <a:chExt cx="1679400" cy="709560"/>
            </a:xfrm>
          </p:grpSpPr>
          <p:pic>
            <p:nvPicPr>
              <p:cNvPr id="236" name="Штриховая стрелка вправо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357120" y="4244400"/>
                <a:ext cx="16794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473040" y="443988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Середина ноября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38" name="Штриховая стрелка вправо 21"/>
            <p:cNvGrpSpPr/>
            <p:nvPr/>
          </p:nvGrpSpPr>
          <p:grpSpPr>
            <a:xfrm>
              <a:off x="357120" y="5724000"/>
              <a:ext cx="1752120" cy="848160"/>
              <a:chOff x="357120" y="5724000"/>
              <a:chExt cx="1752120" cy="848160"/>
            </a:xfrm>
          </p:grpSpPr>
          <p:pic>
            <p:nvPicPr>
              <p:cNvPr id="239" name="Штриховая стрелка вправо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120" y="5724000"/>
                <a:ext cx="175212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495360" y="5955120"/>
                <a:ext cx="139248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Третья декада декабря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41" name="Rectangle 4"/>
          <p:cNvSpPr/>
          <p:nvPr/>
        </p:nvSpPr>
        <p:spPr>
          <a:xfrm>
            <a:off x="1428840" y="421200"/>
            <a:ext cx="60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Основные этапы подготовки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 бюджета городского поселения – город Павловс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2" name="Штриховая стрелка вправо 25"/>
          <p:cNvGrpSpPr/>
          <p:nvPr/>
        </p:nvGrpSpPr>
        <p:grpSpPr>
          <a:xfrm>
            <a:off x="341280" y="5035680"/>
            <a:ext cx="1682640" cy="718920"/>
            <a:chOff x="341280" y="5035680"/>
            <a:chExt cx="1682640" cy="718920"/>
          </a:xfrm>
        </p:grpSpPr>
        <p:pic>
          <p:nvPicPr>
            <p:cNvPr id="243" name="Штриховая стрелка вправо 25" descr=""/>
            <p:cNvPicPr/>
            <p:nvPr/>
          </p:nvPicPr>
          <p:blipFill>
            <a:blip r:embed="rId9"/>
            <a:stretch/>
          </p:blipFill>
          <p:spPr>
            <a:xfrm>
              <a:off x="341280" y="5035680"/>
              <a:ext cx="16826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5232240"/>
              <a:ext cx="1382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Середина декабря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5" name="Rectangle 8"/>
          <p:cNvSpPr/>
          <p:nvPr/>
        </p:nvSpPr>
        <p:spPr>
          <a:xfrm>
            <a:off x="2071800" y="5143680"/>
            <a:ext cx="6643440" cy="571320"/>
          </a:xfrm>
          <a:prstGeom prst="rect">
            <a:avLst/>
          </a:prstGeom>
          <a:gradFill rotWithShape="0">
            <a:gsLst>
              <a:gs pos="0">
                <a:srgbClr val="5ef0f7"/>
              </a:gs>
              <a:gs pos="100000">
                <a:srgbClr val="2cb0b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Arial"/>
              </a:rPr>
              <a:t>Проведение публичных слушаний по вопросу принятия проекта решения о бюджете городского поселения – город Павловск на очередной финансовый год и плановый период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714240" y="5219640"/>
            <a:ext cx="7858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оект бюджета сформирован по программно–целевому принцип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сего на данный момент  разработан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муниципальных программ 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714680" y="39024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Составление проекта бюдже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городского поселения – город Павловс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50920" y="1700280"/>
          <a:ext cx="8604000" cy="3228840"/>
        </p:xfrm>
        <a:graphic>
          <a:graphicData uri="http://schemas.openxmlformats.org/drawingml/2006/table">
            <a:tbl>
              <a:tblPr/>
              <a:tblGrid>
                <a:gridCol w="2151000"/>
                <a:gridCol w="2151000"/>
                <a:gridCol w="2000160"/>
                <a:gridCol w="2301840"/>
              </a:tblGrid>
              <a:tr h="703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ставление проекта бюджета городского поселения – город Павловск основывается на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Бюджетном послании Президента Российской Фед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Прогнозе социально-экономическ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я городского поселения -город Павлов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Основныех направлениях бюджетной и налоговой поли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Государственных (муниципальных программах)    Воронежской области и городского по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116000" y="2143080"/>
          <a:ext cx="7559640" cy="2925720"/>
        </p:xfrm>
        <a:graphic>
          <a:graphicData uri="http://schemas.openxmlformats.org/drawingml/2006/table">
            <a:tbl>
              <a:tblPr/>
              <a:tblGrid>
                <a:gridCol w="2376360"/>
                <a:gridCol w="1800360"/>
                <a:gridCol w="1727280"/>
                <a:gridCol w="1655640"/>
              </a:tblGrid>
              <a:tr h="48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год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4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од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29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ОХОДЫ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5302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3108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406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563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алоговые и неналог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704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160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614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48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97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47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47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РАСХОДЫ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6072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3108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406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ефицит (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770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0" name="Rectangle 4"/>
          <p:cNvSpPr/>
          <p:nvPr/>
        </p:nvSpPr>
        <p:spPr>
          <a:xfrm>
            <a:off x="500040" y="7160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Основные параметры бюдже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городского поселения – город Павловс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7286760" y="17859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Налог на доходы физических лиц</a:t>
            </a:r>
            <a:br>
              <a:rPr sz="22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 соответствии со ст. 218-220 главы 23 Налогового кодекса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Российской Федерации предоставляются налоговые вычеты, в том числе: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Схема 12" descr=""/>
          <p:cNvPicPr/>
          <p:nvPr/>
        </p:nvPicPr>
        <p:blipFill>
          <a:blip r:embed="rId2"/>
          <a:stretch/>
        </p:blipFill>
        <p:spPr>
          <a:xfrm>
            <a:off x="353880" y="1523880"/>
            <a:ext cx="84297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42600"/>
            <a:ext cx="694368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ДОРОЖНЫЙ ФОН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Схема 8" descr=""/>
          <p:cNvPicPr/>
          <p:nvPr/>
        </p:nvPicPr>
        <p:blipFill>
          <a:blip r:embed="rId2"/>
          <a:stretch/>
        </p:blipFill>
        <p:spPr>
          <a:xfrm>
            <a:off x="628560" y="1133640"/>
            <a:ext cx="8223480" cy="5370480"/>
          </a:xfrm>
          <a:prstGeom prst="rect">
            <a:avLst/>
          </a:prstGeom>
          <a:ln w="0">
            <a:noFill/>
          </a:ln>
        </p:spPr>
      </p:pic>
      <p:grpSp>
        <p:nvGrpSpPr>
          <p:cNvPr id="257" name="Штриховая стрелка вправо 9"/>
          <p:cNvGrpSpPr/>
          <p:nvPr/>
        </p:nvGrpSpPr>
        <p:grpSpPr>
          <a:xfrm>
            <a:off x="4413240" y="2322360"/>
            <a:ext cx="781200" cy="536760"/>
            <a:chOff x="4413240" y="2322360"/>
            <a:chExt cx="781200" cy="536760"/>
          </a:xfrm>
        </p:grpSpPr>
        <p:pic>
          <p:nvPicPr>
            <p:cNvPr id="258" name="Штриховая стрелка вправо 9" descr=""/>
            <p:cNvPicPr/>
            <p:nvPr/>
          </p:nvPicPr>
          <p:blipFill>
            <a:blip r:embed="rId3"/>
            <a:stretch/>
          </p:blipFill>
          <p:spPr>
            <a:xfrm>
              <a:off x="4413240" y="2322360"/>
              <a:ext cx="781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rot="16200000">
              <a:off x="4687920" y="2421000"/>
              <a:ext cx="23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0" name="Штриховая стрелка вправо 10"/>
          <p:cNvGrpSpPr/>
          <p:nvPr/>
        </p:nvGrpSpPr>
        <p:grpSpPr>
          <a:xfrm>
            <a:off x="4406760" y="4035600"/>
            <a:ext cx="830520" cy="506160"/>
            <a:chOff x="4406760" y="4035600"/>
            <a:chExt cx="830520" cy="506160"/>
          </a:xfrm>
        </p:grpSpPr>
        <p:pic>
          <p:nvPicPr>
            <p:cNvPr id="261" name="Штриховая стрелка вправо 10" descr=""/>
            <p:cNvPicPr/>
            <p:nvPr/>
          </p:nvPicPr>
          <p:blipFill>
            <a:blip r:embed="rId4"/>
            <a:stretch/>
          </p:blipFill>
          <p:spPr>
            <a:xfrm>
              <a:off x="4406760" y="4035600"/>
              <a:ext cx="83052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rot="5400000">
              <a:off x="4716720" y="4072680"/>
              <a:ext cx="211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5009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Межбюджетные трансферты - основной вид безвозмездных перечислений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3571920" y="1285920"/>
            <a:ext cx="51433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 Antiqua"/>
              </a:rPr>
              <a:t>Межбюджетные трансферты </a:t>
            </a:r>
            <a:r>
              <a:rPr b="0" lang="en-US" sz="1700" spc="-1" strike="noStrike">
                <a:solidFill>
                  <a:srgbClr val="000000"/>
                </a:solidFill>
                <a:latin typeface="Book Antiqua"/>
              </a:rPr>
              <a:t>– это денежные средства, перечисляемые из одного бюджета бюджетной системы Российской Федерации другому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55640" y="2786040"/>
          <a:ext cx="8064000" cy="2847960"/>
        </p:xfrm>
        <a:graphic>
          <a:graphicData uri="http://schemas.openxmlformats.org/drawingml/2006/table">
            <a:tbl>
              <a:tblPr/>
              <a:tblGrid>
                <a:gridCol w="4140000"/>
                <a:gridCol w="3924000"/>
              </a:tblGrid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ды межбюджетных трансфер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  <a:tr h="5104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тации</a:t>
                      </a:r>
                      <a:br>
                        <a:rPr sz="1500"/>
                      </a:b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(от лат. "dotatio" - дар, пожертвовани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marL="82440" indent="451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оставляются без определе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я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нкретной цели их использова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  <a:tr h="9208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бвенции  </a:t>
                      </a:r>
                      <a:br>
                        <a:rPr sz="1500"/>
                      </a:b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(от лат. "subvenre" - приходить на помощь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marL="82440" indent="451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оставляются на финансирование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"переданных" другим публично-правовым образованиям полномоч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  <a:tr h="692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бсидии </a:t>
                      </a:r>
                      <a:br>
                        <a:rPr sz="1500"/>
                      </a:b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от лат. "subsidium" - поддерж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marL="82440" indent="451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оставляются на условиях долевого софинансирования расходов других бюджето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66" name="Picture 1" descr="D:\Документы\2014\Задания отчеты\Исполненеие бюджета\78319827.jpg"/>
          <p:cNvPicPr/>
          <p:nvPr/>
        </p:nvPicPr>
        <p:blipFill>
          <a:blip r:embed="rId2"/>
          <a:stretch/>
        </p:blipFill>
        <p:spPr>
          <a:xfrm>
            <a:off x="1428840" y="1141560"/>
            <a:ext cx="1428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8:51:20Z</dcterms:created>
  <dc:creator>user1</dc:creator>
  <dc:description/>
  <dc:language>en-US</dc:language>
  <cp:lastModifiedBy>Glbuh</cp:lastModifiedBy>
  <dcterms:modified xsi:type="dcterms:W3CDTF">2021-11-24T06:00:53Z</dcterms:modified>
  <cp:revision>294</cp:revision>
  <dc:subject/>
  <dc:title>Слайд 1</dc:title>
</cp:coreProperties>
</file>