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8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5.png" ContentType="image/png"/>
  <Override PartName="/ppt/media/image35.png" ContentType="image/png"/>
  <Override PartName="/ppt/media/image31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CE13-D136-437D-8250-FA9A4149A41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CAC6-F916-4D92-8EF9-255CAD0217B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31EA-92B0-4FF3-B487-F71FE1252F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E916-5C69-4361-AB83-C76EB75DF3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4997-C76F-4B8C-BBDC-FFA9A0DE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1CA-35C9-44DE-A6E2-BF22A736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8C8-6F29-44F8-9857-7E75A9BA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2F34-974F-4E9F-9625-87E6D18D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93BD-FCA9-4D9E-A478-B1625BD3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73ED-C6FC-4177-9B19-C50439A9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58BD-3CD2-4603-801D-CA831671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FD27-71B7-4CA0-AB0A-BA82720C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86FE-490E-4599-ACAF-F1651D3C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2512-26AA-44D5-B4C0-489BFF97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004A-26CA-47B1-BE57-29C8083F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28E-1996-43B7-B523-82337666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5CB7-F1F3-4F33-B484-8B66A604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C7A4-706F-4789-A72A-0EA1ACE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F904-7B55-4F44-B54E-5EF4B7D5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C38F-1E3D-4952-BBDE-6460D613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9919-94CB-4066-9F4F-3152A721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7E511-7007-47AD-8612-8403BDD5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DDC1B-7A34-4F9C-BAED-C1D0C6F4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BD0DC-3447-4AA2-8ACC-DC955FA6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F95CB-6969-43EF-969C-B893EA2A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E5E73-F8B5-4CBA-86F7-5730839A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5902-14C8-43BD-9E65-E3550CB8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23C63-B9FE-4892-8C28-B838C947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96CF4-2B80-4193-AD04-F7D44727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8F111-F024-4C94-85E4-7E927DED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DA4D-9AC7-44CF-A821-4264EEA7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73638-0734-4F1F-9127-5457F86F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FDB86-E938-4574-A3BD-B53B917BA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6DC7-07EA-41EE-A392-0D554C0B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F9D1-3B37-43E6-9D4B-6A7BD560E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AE9B-AA0F-4B44-AEB1-84F4870D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EC5-F859-4198-8E9D-8174446C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CFD3-F466-4572-B529-207BD419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5BB-4CA5-4FBD-8F04-D907C017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BB2-C41A-4569-9682-A3DB6EB2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FEF9-929C-4BBD-A7DE-CD10737B4AE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7D91-8982-4C8A-8F9C-966764BDB9C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528B-DA08-4CC3-A7F5-426F2DA2E66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image" Target="../media/image36.png"/><Relationship Id="rId14" Type="http://schemas.openxmlformats.org/officeDocument/2006/relationships/image" Target="../media/image37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/>
          <p:cNvSpPr/>
          <p:nvPr/>
        </p:nvSpPr>
        <p:spPr>
          <a:xfrm>
            <a:off x="1979640" y="170028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Бюджет для граждан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301608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 проекту Реше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ета народных депутатов городского поселения – город Павловс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Об утверждении бюджета городского поселения – город Павловск на 2021 год и плановый период 2022 и 2023 годов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Понятие и типы расходных обязательств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Расходное обязательство – это обязанность выплатить денежные средства из соответствующего бюджета.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Таблица 3" descr=""/>
          <p:cNvPicPr/>
          <p:nvPr/>
        </p:nvPicPr>
        <p:blipFill>
          <a:blip r:embed="rId1"/>
          <a:stretch/>
        </p:blipFill>
        <p:spPr>
          <a:xfrm>
            <a:off x="566640" y="2000160"/>
            <a:ext cx="82915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Заголовок 1"/>
          <p:cNvSpPr/>
          <p:nvPr/>
        </p:nvSpPr>
        <p:spPr>
          <a:xfrm>
            <a:off x="857160" y="785880"/>
            <a:ext cx="7500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 Antiqua"/>
              </a:rPr>
              <a:t>Расходы бюджета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Book Antiqua"/>
              </a:rPr>
              <a:t>Расходы бюджета – это выплачиваемые из бюджета денежные средства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Схема 18" descr=""/>
          <p:cNvPicPr/>
          <p:nvPr/>
        </p:nvPicPr>
        <p:blipFill>
          <a:blip r:embed="rId1"/>
          <a:stretch/>
        </p:blipFill>
        <p:spPr>
          <a:xfrm>
            <a:off x="858960" y="1639800"/>
            <a:ext cx="76388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асходы бюджет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бюджета 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лачиваемые из бюджета денежные средства, за исключением средств, являющихся источниками дефицита бюдже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расходов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 соответствии с расходными обязательствами, обусловленными установленным законодательством разграничением полномочий, исполнение которых должно происходить в очередном финансовом году за счет средств соответствующих бюджетов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формирования расходов бюджета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аздела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домствам;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547560" indent="-228600" algn="just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униципальным программам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Скругленный прямоугольник 3"/>
          <p:cNvSpPr/>
          <p:nvPr/>
        </p:nvSpPr>
        <p:spPr>
          <a:xfrm>
            <a:off x="142920" y="3857760"/>
            <a:ext cx="8858160" cy="357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ы классификации расходов бюджето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Скругленный прямоугольник 4"/>
          <p:cNvSpPr/>
          <p:nvPr/>
        </p:nvSpPr>
        <p:spPr>
          <a:xfrm>
            <a:off x="468360" y="4508640"/>
            <a:ext cx="1000080" cy="928440"/>
          </a:xfrm>
          <a:prstGeom prst="roundRect">
            <a:avLst>
              <a:gd name="adj" fmla="val 16667"/>
            </a:avLst>
          </a:prstGeom>
          <a:solidFill>
            <a:srgbClr val="ff88ba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  <a:ea typeface="Arial"/>
              </a:rPr>
              <a:t>01 «Общегосу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-д</a:t>
            </a:r>
            <a:r>
              <a:rPr b="0" lang="ru-RU" sz="1000" spc="-1" strike="noStrike">
                <a:solidFill>
                  <a:srgbClr val="000000"/>
                </a:solidFill>
                <a:latin typeface="Cambria"/>
                <a:ea typeface="Arial"/>
              </a:rPr>
              <a:t>арственные вопросы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Скругленный прямоугольник 7"/>
          <p:cNvSpPr/>
          <p:nvPr/>
        </p:nvSpPr>
        <p:spPr>
          <a:xfrm>
            <a:off x="5651640" y="5373720"/>
            <a:ext cx="1285560" cy="785880"/>
          </a:xfrm>
          <a:prstGeom prst="roundRect">
            <a:avLst>
              <a:gd name="adj" fmla="val 16667"/>
            </a:avLst>
          </a:prstGeom>
          <a:solidFill>
            <a:srgbClr val="ab0043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08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«Культура , кинематография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Скругленный прямоугольник 8"/>
          <p:cNvSpPr/>
          <p:nvPr/>
        </p:nvSpPr>
        <p:spPr>
          <a:xfrm>
            <a:off x="1835280" y="4581360"/>
            <a:ext cx="1214280" cy="928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03 «Национальная безопасность и правоохранительная деятельность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Скругленный прямоугольник 10"/>
          <p:cNvSpPr/>
          <p:nvPr/>
        </p:nvSpPr>
        <p:spPr>
          <a:xfrm>
            <a:off x="3132000" y="5445000"/>
            <a:ext cx="1289160" cy="64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04 «Национальная экономика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Скругленный прямоугольник 12"/>
          <p:cNvSpPr/>
          <p:nvPr/>
        </p:nvSpPr>
        <p:spPr>
          <a:xfrm>
            <a:off x="6659640" y="4437000"/>
            <a:ext cx="1143000" cy="785880"/>
          </a:xfrm>
          <a:prstGeom prst="roundRect">
            <a:avLst>
              <a:gd name="adj" fmla="val 16667"/>
            </a:avLst>
          </a:prstGeom>
          <a:solidFill>
            <a:srgbClr val="ff8eba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«Социальная политика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Скругленный прямоугольник 13"/>
          <p:cNvSpPr/>
          <p:nvPr/>
        </p:nvSpPr>
        <p:spPr>
          <a:xfrm>
            <a:off x="4356000" y="4508640"/>
            <a:ext cx="1224000" cy="928440"/>
          </a:xfrm>
          <a:prstGeom prst="roundRect">
            <a:avLst>
              <a:gd name="adj" fmla="val 16667"/>
            </a:avLst>
          </a:prstGeom>
          <a:solidFill>
            <a:srgbClr val="2c71ff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mbria"/>
                <a:ea typeface="Arial"/>
              </a:rPr>
              <a:t>05 «Жилищно-коммунальное хозяйство»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Скругленный прямоугольник 16"/>
          <p:cNvSpPr/>
          <p:nvPr/>
        </p:nvSpPr>
        <p:spPr>
          <a:xfrm>
            <a:off x="7451640" y="5373720"/>
            <a:ext cx="1441440" cy="1069920"/>
          </a:xfrm>
          <a:prstGeom prst="roundRect">
            <a:avLst>
              <a:gd name="adj" fmla="val 16667"/>
            </a:avLst>
          </a:prstGeom>
          <a:solidFill>
            <a:srgbClr val="ed1fd4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mbria"/>
                <a:ea typeface="Arial"/>
              </a:rPr>
              <a:t>13 «Обслуживание государственного и муниципального долга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Прямая соединительная линия 24"/>
          <p:cNvSpPr/>
          <p:nvPr/>
        </p:nvSpPr>
        <p:spPr>
          <a:xfrm flipH="1">
            <a:off x="6300720" y="4221000"/>
            <a:ext cx="7920" cy="115272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Прямая соединительная линия 26"/>
          <p:cNvSpPr/>
          <p:nvPr/>
        </p:nvSpPr>
        <p:spPr>
          <a:xfrm flipH="1">
            <a:off x="971640" y="4221000"/>
            <a:ext cx="1440" cy="2876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Прямая соединительная линия 30"/>
          <p:cNvSpPr/>
          <p:nvPr/>
        </p:nvSpPr>
        <p:spPr>
          <a:xfrm>
            <a:off x="2411280" y="4221000"/>
            <a:ext cx="0" cy="36036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Прямая соединительная линия 32"/>
          <p:cNvSpPr/>
          <p:nvPr/>
        </p:nvSpPr>
        <p:spPr>
          <a:xfrm flipH="1">
            <a:off x="5003280" y="4221000"/>
            <a:ext cx="1800" cy="2876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Прямая соединительная линия 41"/>
          <p:cNvSpPr/>
          <p:nvPr/>
        </p:nvSpPr>
        <p:spPr>
          <a:xfrm flipH="1">
            <a:off x="3708000" y="4221000"/>
            <a:ext cx="1800" cy="121464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Прямая соединительная линия 43"/>
          <p:cNvSpPr/>
          <p:nvPr/>
        </p:nvSpPr>
        <p:spPr>
          <a:xfrm flipH="1">
            <a:off x="7236000" y="4221000"/>
            <a:ext cx="2880" cy="21600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Прямая соединительная линия 51"/>
          <p:cNvSpPr/>
          <p:nvPr/>
        </p:nvSpPr>
        <p:spPr>
          <a:xfrm flipH="1">
            <a:off x="8244000" y="4221000"/>
            <a:ext cx="1440" cy="1152720"/>
          </a:xfrm>
          <a:prstGeom prst="line">
            <a:avLst/>
          </a:prstGeom>
          <a:ln w="9360">
            <a:solidFill>
              <a:srgbClr val="d323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43912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f6fc6"/>
                </a:solidFill>
                <a:latin typeface="Times New Roman"/>
              </a:rPr>
              <a:t>РАСХОДЫ  БЮДЖЕТА в 2021-2023 г.г.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24000" y="1341360"/>
          <a:ext cx="8569080" cy="4921200"/>
        </p:xfrm>
        <a:graphic>
          <a:graphicData uri="http://schemas.openxmlformats.org/drawingml/2006/table">
            <a:tbl>
              <a:tblPr/>
              <a:tblGrid>
                <a:gridCol w="5184720"/>
                <a:gridCol w="1150920"/>
                <a:gridCol w="1152360"/>
                <a:gridCol w="1081080"/>
              </a:tblGrid>
              <a:tr h="728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ы на реализацию муниципальных  программ,                            в том числе: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1 год прое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2 год прое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ект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88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1. Муниципальная программа «Эффективная власть</a:t>
                      </a: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»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764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76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770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88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2. Муниципальная программа «Безопасность городского поселения – город Павловск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3. Муниципальная програм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Обеспечение градостроительной деятельности на территории городского поселения – город Павловс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53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874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2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4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4. Муниципальная программ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«Развитие транспортной системы»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5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1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8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5. Муниципальная программа «Обеспечение доступным и комфортным жильем и комфортными услугами  населения городского поселения – город Павловс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6. Муниципальная программа «Благоустройство городского поселения – город Павловск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13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97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14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7.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Муниципальная программа «Формирование современной городской среды на 2018-2024 годы»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063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11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4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76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9dd9"/>
                      </a:solidFill>
                    </a:lnL>
                    <a:lnR w="5760">
                      <a:solidFill>
                        <a:srgbClr val="009dd9"/>
                      </a:solidFill>
                    </a:lnR>
                    <a:lnT w="5760">
                      <a:solidFill>
                        <a:srgbClr val="009dd9"/>
                      </a:solidFill>
                    </a:lnT>
                    <a:lnB w="5760">
                      <a:solidFill>
                        <a:srgbClr val="009dd9"/>
                      </a:solidFill>
                    </a:lnB>
                    <a:solidFill>
                      <a:srgbClr val="ff9f9f"/>
                    </a:solidFill>
                  </a:tcPr>
                </a:tc>
              </a:tr>
            </a:tbl>
          </a:graphicData>
        </a:graphic>
      </p:graphicFrame>
      <p:sp>
        <p:nvSpPr>
          <p:cNvPr id="240" name="Rectangle 1"/>
          <p:cNvSpPr/>
          <p:nvPr/>
        </p:nvSpPr>
        <p:spPr>
          <a:xfrm>
            <a:off x="4256280" y="74880"/>
            <a:ext cx="63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ефицит и профицит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2" name="Содержимое 2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515440" cy="4032360"/>
          </a:xfrm>
          <a:prstGeom prst="rect">
            <a:avLst/>
          </a:prstGeom>
          <a:ln w="0">
            <a:noFill/>
          </a:ln>
        </p:spPr>
      </p:pic>
      <p:grpSp>
        <p:nvGrpSpPr>
          <p:cNvPr id="243" name="Скругленный прямоугольник 4"/>
          <p:cNvGrpSpPr/>
          <p:nvPr/>
        </p:nvGrpSpPr>
        <p:grpSpPr>
          <a:xfrm>
            <a:off x="695160" y="1695600"/>
            <a:ext cx="3748320" cy="2238120"/>
            <a:chOff x="695160" y="1695600"/>
            <a:chExt cx="3748320" cy="2238120"/>
          </a:xfrm>
        </p:grpSpPr>
        <p:pic>
          <p:nvPicPr>
            <p:cNvPr id="244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695160" y="1695600"/>
              <a:ext cx="374832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853920" y="1818360"/>
              <a:ext cx="343548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6" name="Скругленный прямоугольник 5"/>
          <p:cNvGrpSpPr/>
          <p:nvPr/>
        </p:nvGrpSpPr>
        <p:grpSpPr>
          <a:xfrm>
            <a:off x="4979880" y="1695600"/>
            <a:ext cx="3676680" cy="2238120"/>
            <a:chOff x="4979880" y="1695600"/>
            <a:chExt cx="3676680" cy="2238120"/>
          </a:xfrm>
        </p:grpSpPr>
        <p:pic>
          <p:nvPicPr>
            <p:cNvPr id="247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4979880" y="1695600"/>
              <a:ext cx="367668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140440" y="1818360"/>
              <a:ext cx="3363840" cy="19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9" name="Скругленный прямоугольник 6"/>
          <p:cNvGrpSpPr/>
          <p:nvPr/>
        </p:nvGrpSpPr>
        <p:grpSpPr>
          <a:xfrm>
            <a:off x="749160" y="1536840"/>
            <a:ext cx="3640320" cy="493560"/>
            <a:chOff x="749160" y="1536840"/>
            <a:chExt cx="3640320" cy="493560"/>
          </a:xfrm>
        </p:grpSpPr>
        <p:pic>
          <p:nvPicPr>
            <p:cNvPr id="250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749160" y="1536840"/>
              <a:ext cx="36403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806400" y="1592280"/>
              <a:ext cx="3530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mbria"/>
                  <a:ea typeface="Arial"/>
                </a:rPr>
                <a:t>дефицит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2" name="Скругленный прямоугольник 7"/>
          <p:cNvGrpSpPr/>
          <p:nvPr/>
        </p:nvGrpSpPr>
        <p:grpSpPr>
          <a:xfrm>
            <a:off x="5048280" y="1474920"/>
            <a:ext cx="3541680" cy="469800"/>
            <a:chOff x="5048280" y="1474920"/>
            <a:chExt cx="3541680" cy="469800"/>
          </a:xfrm>
        </p:grpSpPr>
        <p:pic>
          <p:nvPicPr>
            <p:cNvPr id="253" name="Скругленный прямоугольник 7" descr=""/>
            <p:cNvPicPr/>
            <p:nvPr/>
          </p:nvPicPr>
          <p:blipFill>
            <a:blip r:embed="rId6"/>
            <a:stretch/>
          </p:blipFill>
          <p:spPr>
            <a:xfrm>
              <a:off x="5048280" y="1474920"/>
              <a:ext cx="35416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5092560" y="1521000"/>
              <a:ext cx="34592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профицит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5" name="Скругленный прямоугольник 8"/>
          <p:cNvGrpSpPr/>
          <p:nvPr/>
        </p:nvGrpSpPr>
        <p:grpSpPr>
          <a:xfrm>
            <a:off x="981000" y="2193840"/>
            <a:ext cx="3176640" cy="604800"/>
            <a:chOff x="981000" y="2193840"/>
            <a:chExt cx="3176640" cy="604800"/>
          </a:xfrm>
        </p:grpSpPr>
        <p:pic>
          <p:nvPicPr>
            <p:cNvPr id="256" name="Скругленный прямоугольник 8" descr=""/>
            <p:cNvPicPr/>
            <p:nvPr/>
          </p:nvPicPr>
          <p:blipFill>
            <a:blip r:embed="rId7"/>
            <a:stretch/>
          </p:blipFill>
          <p:spPr>
            <a:xfrm>
              <a:off x="981000" y="2193840"/>
              <a:ext cx="31766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028880" y="2243160"/>
              <a:ext cx="30859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акопленные резервы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8" name="Скругленный прямоугольник 9"/>
          <p:cNvGrpSpPr/>
          <p:nvPr/>
        </p:nvGrpSpPr>
        <p:grpSpPr>
          <a:xfrm>
            <a:off x="981000" y="2981160"/>
            <a:ext cx="3176640" cy="743040"/>
            <a:chOff x="981000" y="2981160"/>
            <a:chExt cx="3176640" cy="743040"/>
          </a:xfrm>
        </p:grpSpPr>
        <p:pic>
          <p:nvPicPr>
            <p:cNvPr id="259" name="Скругленный 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981000" y="2981160"/>
              <a:ext cx="3176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1035000" y="3035160"/>
              <a:ext cx="307332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униципаль</a:t>
              </a: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ый долг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1" name="Скругленный прямоугольник 10"/>
          <p:cNvGrpSpPr/>
          <p:nvPr/>
        </p:nvGrpSpPr>
        <p:grpSpPr>
          <a:xfrm>
            <a:off x="5340240" y="2127240"/>
            <a:ext cx="2955960" cy="596880"/>
            <a:chOff x="5340240" y="2127240"/>
            <a:chExt cx="2955960" cy="596880"/>
          </a:xfrm>
        </p:grpSpPr>
        <p:pic>
          <p:nvPicPr>
            <p:cNvPr id="262" name="Скругленный 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5340240" y="2127240"/>
              <a:ext cx="29559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386320" y="2171880"/>
              <a:ext cx="28717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акопленные резервы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4" name="Скругленный прямоугольник 11"/>
          <p:cNvGrpSpPr/>
          <p:nvPr/>
        </p:nvGrpSpPr>
        <p:grpSpPr>
          <a:xfrm>
            <a:off x="5340240" y="3054240"/>
            <a:ext cx="2955960" cy="669960"/>
            <a:chOff x="5340240" y="3054240"/>
            <a:chExt cx="2955960" cy="669960"/>
          </a:xfrm>
        </p:grpSpPr>
        <p:pic>
          <p:nvPicPr>
            <p:cNvPr id="265" name="Скругленный прямоугольник 11" descr=""/>
            <p:cNvPicPr/>
            <p:nvPr/>
          </p:nvPicPr>
          <p:blipFill>
            <a:blip r:embed="rId10"/>
            <a:stretch/>
          </p:blipFill>
          <p:spPr>
            <a:xfrm>
              <a:off x="5340240" y="3054240"/>
              <a:ext cx="29559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389560" y="3103560"/>
              <a:ext cx="2865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униципаль</a:t>
              </a:r>
              <a:r>
                <a:rPr b="1" lang="en-US" sz="1600" spc="-1" strike="noStrike">
                  <a:solidFill>
                    <a:srgbClr val="000000"/>
                  </a:solidFill>
                  <a:latin typeface="Cambria"/>
                  <a:ea typeface="Arial"/>
                </a:rPr>
                <a:t>ный долг</a:t>
              </a:r>
              <a:endParaRPr b="0" lang="en-US" sz="1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7" name="Стрелка вниз 12"/>
          <p:cNvGrpSpPr/>
          <p:nvPr/>
        </p:nvGrpSpPr>
        <p:grpSpPr>
          <a:xfrm>
            <a:off x="3535200" y="2335320"/>
            <a:ext cx="347760" cy="328680"/>
            <a:chOff x="3535200" y="2335320"/>
            <a:chExt cx="347760" cy="328680"/>
          </a:xfrm>
        </p:grpSpPr>
        <p:pic>
          <p:nvPicPr>
            <p:cNvPr id="268" name="Стрелка вниз 12" descr=""/>
            <p:cNvPicPr/>
            <p:nvPr/>
          </p:nvPicPr>
          <p:blipFill>
            <a:blip r:embed="rId11"/>
            <a:stretch/>
          </p:blipFill>
          <p:spPr>
            <a:xfrm>
              <a:off x="3535200" y="2335320"/>
              <a:ext cx="34776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3643200" y="2357280"/>
              <a:ext cx="1429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0" name="Стрелка вверх 13"/>
          <p:cNvGrpSpPr/>
          <p:nvPr/>
        </p:nvGrpSpPr>
        <p:grpSpPr>
          <a:xfrm>
            <a:off x="3535200" y="3114720"/>
            <a:ext cx="347760" cy="403200"/>
            <a:chOff x="3535200" y="3114720"/>
            <a:chExt cx="347760" cy="403200"/>
          </a:xfrm>
        </p:grpSpPr>
        <p:pic>
          <p:nvPicPr>
            <p:cNvPr id="271" name="Стрелка вверх 13" descr=""/>
            <p:cNvPicPr/>
            <p:nvPr/>
          </p:nvPicPr>
          <p:blipFill>
            <a:blip r:embed="rId12"/>
            <a:stretch/>
          </p:blipFill>
          <p:spPr>
            <a:xfrm>
              <a:off x="3535200" y="3114720"/>
              <a:ext cx="34776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3643200" y="3214800"/>
              <a:ext cx="1429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3" name="Стрелка вверх 14"/>
          <p:cNvGrpSpPr/>
          <p:nvPr/>
        </p:nvGrpSpPr>
        <p:grpSpPr>
          <a:xfrm>
            <a:off x="7753320" y="2262240"/>
            <a:ext cx="274680" cy="328680"/>
            <a:chOff x="7753320" y="2262240"/>
            <a:chExt cx="274680" cy="328680"/>
          </a:xfrm>
        </p:grpSpPr>
        <p:pic>
          <p:nvPicPr>
            <p:cNvPr id="274" name="Стрелка вверх 14" descr=""/>
            <p:cNvPicPr/>
            <p:nvPr/>
          </p:nvPicPr>
          <p:blipFill>
            <a:blip r:embed="rId13"/>
            <a:stretch/>
          </p:blipFill>
          <p:spPr>
            <a:xfrm>
              <a:off x="7753320" y="2262240"/>
              <a:ext cx="274680" cy="3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7840800" y="2340000"/>
              <a:ext cx="1062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6" name="Стрелка вниз 15"/>
          <p:cNvGrpSpPr/>
          <p:nvPr/>
        </p:nvGrpSpPr>
        <p:grpSpPr>
          <a:xfrm>
            <a:off x="7753320" y="3187800"/>
            <a:ext cx="274680" cy="336600"/>
            <a:chOff x="7753320" y="3187800"/>
            <a:chExt cx="274680" cy="336600"/>
          </a:xfrm>
        </p:grpSpPr>
        <p:pic>
          <p:nvPicPr>
            <p:cNvPr id="277" name="Стрелка вниз 15" descr=""/>
            <p:cNvPicPr/>
            <p:nvPr/>
          </p:nvPicPr>
          <p:blipFill>
            <a:blip r:embed="rId14"/>
            <a:stretch/>
          </p:blipFill>
          <p:spPr>
            <a:xfrm>
              <a:off x="7753320" y="3187800"/>
              <a:ext cx="274680" cy="3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840800" y="3214800"/>
              <a:ext cx="1062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547640" y="5013360"/>
            <a:ext cx="64090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21 год – дефицит (-6765,0)  тыс. рубл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22 год – сбалансированный бюдж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23 год – сбалансированный бюдже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D:\РАБОТА - НАТАША\Администрация\Исполненеие бюджета\символы\32683507_shutterstock_11474659.jpg"/>
          <p:cNvPicPr/>
          <p:nvPr/>
        </p:nvPicPr>
        <p:blipFill>
          <a:blip r:embed="rId2"/>
          <a:stretch/>
        </p:blipFill>
        <p:spPr>
          <a:xfrm>
            <a:off x="7961400" y="687240"/>
            <a:ext cx="931680" cy="116388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71640" y="820800"/>
            <a:ext cx="32400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Глоссарий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285840" y="1268280"/>
            <a:ext cx="86072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Администратор доходов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осуществляющий(ее): - контроль за правильностью исчисления, - полнотой и своевременностью уплаты, - начисление, - учет, - взыскание, - принятие решений о возврате (зачете) излишне уплаченных (взысканных) платежей, пеней и штрафов по ним, являющихся доходами бюджетов бюджетной системы РФ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.Фонд денежных средств, предназначенный для финансирования функций государства (федеральный и региональный уровень) и местного самоуправления (местный уровень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.Представляет собой главный финансовый документ страны (региона, муниципалитета, поселения), утверждаемый органом законодательной власти соответствующего уровня управле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 консолидированный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вод бюджетов бюджетной системы Российской Федерации на соответствующей территории (за исключением бюджетов государственных внебюджетных фондов). Консолидированным может быть бюджет на местном уровне (свод бюджета муниципального образования и бюджетов входящих в него поселений), региональном (свод бюджета субъекта Российской Федерации и бюджетов входящих в него муниципальных образований), федеральном (свод всех бюджетов бюджетной системы Российской Федерации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 муниципального образования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1.Фонд денежных средств, предназначенный для финансирования функций, отнесенных к предметам ведения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2.Основной финансовый документ муниципального образования, поселения на текущий финансовый год, принимаемый представительным органом местного самоуправле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Бюджетная роспись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Документ, который составляется и ведется: - Главным распорядителем бюджетных средств - в целях исполнения бюджета в части расходов; - Главным администратором источников финансирования дефицита бюджета - в целях исполнения бюджета в части источников финансирования дефицита бюджет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216036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Глоссарий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285840" y="1268280"/>
            <a:ext cx="860724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Г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Главный администратор доходов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Центральный банк Российской Федерации, казенное учреждение, имеющий(ее) в своем ведении администраторов доходов бюджет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Главный распорядитель бюджетных средств (ГРБС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или наиболее значимое учреждение науки, образования, культуры и здравоохранения, напрямую получающий(ее) средства из бюджета и наделенный правом распределять их между подведомственными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Д 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Дефицит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Превышение расходов бюджета над его доходам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Дотации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редства, предоставляемые одним бюджетом бюджетной системы РФ другому бюджету на безвозмездной и безвозвратной основе без указания конкретных целей использования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Доходы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Поступающие от населения, организаций, учреждений в бюджет денежные средства в виде: - налогов; - неналоговых поступлений (пошлины, доходы от продажи имущества, штрафы и т.п.); - безвозмездных поступлений; - доходов от предпринимательской деятельности бюджетных организаций. Кредиты, доходы от выпуска ценных бумаг, полученные государством (органами местного самоуправления), не включаются в состав доходо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Межбюджетные трансферты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редства, предоставляемые одним бюджетом бюджетной системы РФ другому бюджету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Профицит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Превышение доходов бюджета над его расходам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3" descr="D:\РАБОТА - НАТАША\Администрация\Исполненеие бюджета\символы\32683507_shutterstock_11474659.jpg"/>
          <p:cNvPicPr/>
          <p:nvPr/>
        </p:nvPicPr>
        <p:blipFill>
          <a:blip r:embed="rId2"/>
          <a:stretch/>
        </p:blipFill>
        <p:spPr>
          <a:xfrm>
            <a:off x="7961400" y="608040"/>
            <a:ext cx="9316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280" y="820800"/>
            <a:ext cx="216036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Глоссарий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TextBox 2"/>
          <p:cNvSpPr/>
          <p:nvPr/>
        </p:nvSpPr>
        <p:spPr>
          <a:xfrm>
            <a:off x="285840" y="1268280"/>
            <a:ext cx="86072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Распорядитель бюджетных средств (РБС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рган государственной власти (местного самоуправления), орган управления государственным внебюджетным фондом, или казенное учреждение, наделенный(ое) правом распределять полученные средства бюджета между подведомственными распорядителями и получателями бюджетных средств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Расходное обязательство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Обязанность публично-правового образования предоставить физическому или юридическому лицу, иному уровню бюджета, международной организации средства из соответствующего бюджет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Расходы бюджет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Выплачиваемые из бюджета денежные средства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Book Antiqua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Участники бюджетного процесса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Субъекты, осуществляющие деятельность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Book Antiqua"/>
              </a:rPr>
              <a:t>Ф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Финансовый орган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На федеральном уровне - Министерство финансов Российской Федерации. На уровне субъекта РФ - органы исполнительной власти субъектов РФ, осуществляющие составление и организацию исполнения бюджетов субъектов РФ (министерства финансов, департаменты финансов, управления финансов и др.). На местном уровне - органы (должностные лица) местных администраций, осуществляющие составление и организацию исполнения местных бюджетов (департаменты финансов, управления финансов, финансовые отделы и др.)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8" name="Picture 3" descr="D:\РАБОТА - НАТАША\Администрация\Исполненеие бюджета\символы\32683507_shutterstock_11474659.jpg"/>
          <p:cNvPicPr/>
          <p:nvPr/>
        </p:nvPicPr>
        <p:blipFill>
          <a:blip r:embed="rId2"/>
          <a:stretch/>
        </p:blipFill>
        <p:spPr>
          <a:xfrm>
            <a:off x="7961400" y="687240"/>
            <a:ext cx="93168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f6fc6"/>
                </a:solidFill>
                <a:latin typeface="Times New Roman"/>
              </a:rPr>
              <a:t>Контактная информация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естонахождение администрации городского поселения – город Павловс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микрорайон Северный, д. 23А,  г. Павловск,  Воронежская область, 396420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Контактный телефо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(47362) 7-02-4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дрес электронной почт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vlg.pavl@govvrn.ru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рафик работы администра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недельник – пятница с 8-00 до 17-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График личного приема главы городского поселения – город Павловс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размещен на  официальном сайте администрации в сети «Интернет» по адресу:  http://pavlovskadmin.ru/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i5"/>
          <p:cNvPicPr/>
          <p:nvPr/>
        </p:nvPicPr>
        <p:blipFill>
          <a:blip r:embed="rId2"/>
          <a:stretch/>
        </p:blipFill>
        <p:spPr>
          <a:xfrm>
            <a:off x="285840" y="1571760"/>
            <a:ext cx="1143000" cy="1304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1619280" y="145440"/>
            <a:ext cx="6953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онятие документа  «Бюджет для граждан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– это план доходов и расходов на определенный период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6" name="Picture 1" descr="D:\Документы\2014\Задания отчеты\Исполненеие бюджета\фото для оформления\83562073.jpg"/>
          <p:cNvPicPr/>
          <p:nvPr/>
        </p:nvPicPr>
        <p:blipFill>
          <a:blip r:embed="rId3"/>
          <a:stretch/>
        </p:blipFill>
        <p:spPr>
          <a:xfrm>
            <a:off x="285840" y="464328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63640" y="1628640"/>
            <a:ext cx="691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едставленная информация предназначена для широкого круга пользователей и будет интересна и полезна различным категориям населения городского поселения – город Павловск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Граждане – и как налогоплательщики, и как потребители общественных благ –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для каждого человек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ы постарались в доступной и понятной форме для граждан  показать основные параметры бюджета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D:\Документы\2014\Задания отчеты\Исполненеие бюджета\фото для оформления\6885.jpg"/>
          <p:cNvPicPr/>
          <p:nvPr/>
        </p:nvPicPr>
        <p:blipFill>
          <a:blip r:embed="rId2"/>
          <a:stretch/>
        </p:blipFill>
        <p:spPr>
          <a:xfrm>
            <a:off x="6313320" y="4309920"/>
            <a:ext cx="2428920" cy="1822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59" name=""/>
          <p:cNvGraphicFramePr/>
          <p:nvPr/>
        </p:nvGraphicFramePr>
        <p:xfrm>
          <a:off x="5143680" y="5715000"/>
          <a:ext cx="3886200" cy="579600"/>
        </p:xfrm>
        <a:graphic>
          <a:graphicData uri="http://schemas.openxmlformats.org/drawingml/2006/table">
            <a:tbl>
              <a:tblPr/>
              <a:tblGrid>
                <a:gridCol w="1485720"/>
                <a:gridCol w="2400480"/>
              </a:tblGrid>
              <a:tr h="579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"/>
          <p:cNvSpPr/>
          <p:nvPr/>
        </p:nvSpPr>
        <p:spPr>
          <a:xfrm>
            <a:off x="741240" y="1643760"/>
            <a:ext cx="80010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бязательное опубликование в средствах массовой информации утвержденных бюджетов и отчетов об их исполнени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Доступность иных сведений о бюджетах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Обязательная открытость для общества и средств массовой информации проектов бюджетов, обеспечение доступа к информации на едином портале бюджетной системы Российской информации в сети «Интернет»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2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еемственность бюджетной классификации Российской Федерации, а также обеспечение сопоставимости показателей бюджета отчетного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текущего и очередного финансового год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905040" y="475920"/>
            <a:ext cx="79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инцип прозрачности (открытости) бюджетной системы Российской Федерации означает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3214800" y="6143760"/>
            <a:ext cx="535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Бюджетный кодекс Российской Федерации, статья 36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Группа 22"/>
          <p:cNvGrpSpPr/>
          <p:nvPr/>
        </p:nvGrpSpPr>
        <p:grpSpPr>
          <a:xfrm>
            <a:off x="357120" y="1357200"/>
            <a:ext cx="8423280" cy="5214960"/>
            <a:chOff x="357120" y="1357200"/>
            <a:chExt cx="8423280" cy="5214960"/>
          </a:xfrm>
        </p:grpSpPr>
        <p:grpSp>
          <p:nvGrpSpPr>
            <p:cNvPr id="164" name="Группа 14"/>
            <p:cNvGrpSpPr/>
            <p:nvPr/>
          </p:nvGrpSpPr>
          <p:grpSpPr>
            <a:xfrm>
              <a:off x="2084040" y="1461600"/>
              <a:ext cx="6696360" cy="5004720"/>
              <a:chOff x="2084040" y="1461600"/>
              <a:chExt cx="6696360" cy="5004720"/>
            </a:xfrm>
          </p:grpSpPr>
          <p:grpSp>
            <p:nvGrpSpPr>
              <p:cNvPr id="165" name="Rectangle 2"/>
              <p:cNvGrpSpPr/>
              <p:nvPr/>
            </p:nvGrpSpPr>
            <p:grpSpPr>
              <a:xfrm>
                <a:off x="2084040" y="1461600"/>
                <a:ext cx="6696360" cy="520560"/>
                <a:chOff x="2084040" y="1461600"/>
                <a:chExt cx="6696360" cy="520560"/>
              </a:xfrm>
            </p:grpSpPr>
            <p:pic>
              <p:nvPicPr>
                <p:cNvPr id="166" name="Rectangle 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084040" y="1461600"/>
                  <a:ext cx="669636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2113200" y="1487520"/>
                  <a:ext cx="6645240" cy="28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Book Antiqua"/>
                      <a:ea typeface="Arial"/>
                    </a:rPr>
                    <a:t>Определение основных подходов к формированию бюджета городского посел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Constantia"/>
                  </a:endParaRPr>
                </a:p>
              </p:txBody>
            </p:sp>
          </p:grpSp>
          <p:sp>
            <p:nvSpPr>
              <p:cNvPr id="168" name="Rectangle 4"/>
              <p:cNvSpPr/>
              <p:nvPr/>
            </p:nvSpPr>
            <p:spPr>
              <a:xfrm>
                <a:off x="2113200" y="2048760"/>
                <a:ext cx="6645240" cy="4204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afa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Основные показатели прогноза социально-экономического развития городского поселения – город Павловск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69" name="Rectangle 5"/>
              <p:cNvSpPr/>
              <p:nvPr/>
            </p:nvSpPr>
            <p:spPr>
              <a:xfrm>
                <a:off x="2113200" y="2749680"/>
                <a:ext cx="6645240" cy="4906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afa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Работа казенного учреждения и структурных подразделений администрации по подготовке и  обоснованию бюджетных ассигнований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70" name="Rectangle 6"/>
              <p:cNvSpPr/>
              <p:nvPr/>
            </p:nvSpPr>
            <p:spPr>
              <a:xfrm>
                <a:off x="2113200" y="3450960"/>
                <a:ext cx="6645240" cy="6310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afaf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Одобрение главой городского поселения – город Павловск проекта решения Совета народных депутатов городского поселения – город Павловск о бюджете городского поселения – город Павловск на очередной финансовый год и плановый период.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71" name="Rectangle 8"/>
              <p:cNvSpPr/>
              <p:nvPr/>
            </p:nvSpPr>
            <p:spPr>
              <a:xfrm>
                <a:off x="2113200" y="4292640"/>
                <a:ext cx="6580800" cy="6310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cb0b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Внесение главой городского поселения – город Павловск проекта решения Совета народных депутатов о бюджете городского поселения – город Павловск на рассмотрение в Совет  народных  депутатов городского поселения – город Павловск (не позднее  15 ноября)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172" name="Rectangle 9"/>
              <p:cNvSpPr/>
              <p:nvPr/>
            </p:nvSpPr>
            <p:spPr>
              <a:xfrm>
                <a:off x="2183760" y="5905440"/>
                <a:ext cx="6574320" cy="560880"/>
              </a:xfrm>
              <a:prstGeom prst="rect">
                <a:avLst/>
              </a:prstGeom>
              <a:gradFill rotWithShape="0">
                <a:gsLst>
                  <a:gs pos="0">
                    <a:srgbClr val="5ef0f7"/>
                  </a:gs>
                  <a:gs pos="100000">
                    <a:srgbClr val="228686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  <a:ea typeface="Arial"/>
                  </a:rPr>
                  <a:t>Принятие Советом народных депутатов городского поселения – город Павловск решения о  бюджете городского поселения – город Павловск на очередной финансовый   год и плановый период.        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73" name="Штриховая стрелка вправо 16"/>
            <p:cNvGrpSpPr/>
            <p:nvPr/>
          </p:nvGrpSpPr>
          <p:grpSpPr>
            <a:xfrm>
              <a:off x="357120" y="1357200"/>
              <a:ext cx="1679400" cy="703440"/>
              <a:chOff x="357120" y="1357200"/>
              <a:chExt cx="1679400" cy="703440"/>
            </a:xfrm>
          </p:grpSpPr>
          <p:pic>
            <p:nvPicPr>
              <p:cNvPr id="174" name="Штриховая стрелка вправо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57120" y="1357200"/>
                <a:ext cx="1679400" cy="7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"/>
              <p:cNvSpPr/>
              <p:nvPr/>
            </p:nvSpPr>
            <p:spPr>
              <a:xfrm>
                <a:off x="473040" y="154980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Май-июнь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76" name="Штриховая стрелка вправо 17"/>
            <p:cNvGrpSpPr/>
            <p:nvPr/>
          </p:nvGrpSpPr>
          <p:grpSpPr>
            <a:xfrm>
              <a:off x="357120" y="1988640"/>
              <a:ext cx="1679400" cy="709560"/>
              <a:chOff x="357120" y="1988640"/>
              <a:chExt cx="1679400" cy="709560"/>
            </a:xfrm>
          </p:grpSpPr>
          <p:pic>
            <p:nvPicPr>
              <p:cNvPr id="177" name="Штриховая стрелка вправо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357120" y="1988640"/>
                <a:ext cx="167940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"/>
              <p:cNvSpPr/>
              <p:nvPr/>
            </p:nvSpPr>
            <p:spPr>
              <a:xfrm>
                <a:off x="473040" y="218376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Июль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79" name="Штриховая стрелка вправо 18"/>
            <p:cNvGrpSpPr/>
            <p:nvPr/>
          </p:nvGrpSpPr>
          <p:grpSpPr>
            <a:xfrm>
              <a:off x="357120" y="2692440"/>
              <a:ext cx="1679400" cy="709560"/>
              <a:chOff x="357120" y="2692440"/>
              <a:chExt cx="1679400" cy="709560"/>
            </a:xfrm>
          </p:grpSpPr>
          <p:pic>
            <p:nvPicPr>
              <p:cNvPr id="180" name="Штриховая стрелка вправо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357120" y="2692440"/>
                <a:ext cx="167940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473040" y="288900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Июль-сентябрь 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82" name="Штриховая стрелка вправо 19"/>
            <p:cNvGrpSpPr/>
            <p:nvPr/>
          </p:nvGrpSpPr>
          <p:grpSpPr>
            <a:xfrm>
              <a:off x="357120" y="3402360"/>
              <a:ext cx="1679400" cy="703440"/>
              <a:chOff x="357120" y="3402360"/>
              <a:chExt cx="1679400" cy="703440"/>
            </a:xfrm>
          </p:grpSpPr>
          <p:pic>
            <p:nvPicPr>
              <p:cNvPr id="183" name="Штриховая стрелка вправо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357120" y="3402360"/>
                <a:ext cx="1679400" cy="70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473040" y="359388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Начало ноября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85" name="Штриховая стрелка вправо 20"/>
            <p:cNvGrpSpPr/>
            <p:nvPr/>
          </p:nvGrpSpPr>
          <p:grpSpPr>
            <a:xfrm>
              <a:off x="357120" y="4244400"/>
              <a:ext cx="1679400" cy="709560"/>
              <a:chOff x="357120" y="4244400"/>
              <a:chExt cx="1679400" cy="709560"/>
            </a:xfrm>
          </p:grpSpPr>
          <p:pic>
            <p:nvPicPr>
              <p:cNvPr id="186" name="Штриховая стрелка вправо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357120" y="4244400"/>
                <a:ext cx="1679400" cy="70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73040" y="4439880"/>
                <a:ext cx="1379520" cy="31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Середина ноября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88" name="Штриховая стрелка вправо 21"/>
            <p:cNvGrpSpPr/>
            <p:nvPr/>
          </p:nvGrpSpPr>
          <p:grpSpPr>
            <a:xfrm>
              <a:off x="357120" y="5724000"/>
              <a:ext cx="1752120" cy="848160"/>
              <a:chOff x="357120" y="5724000"/>
              <a:chExt cx="1752120" cy="848160"/>
            </a:xfrm>
          </p:grpSpPr>
          <p:pic>
            <p:nvPicPr>
              <p:cNvPr id="189" name="Штриховая стрелка вправо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357120" y="5724000"/>
                <a:ext cx="175212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495360" y="5955120"/>
                <a:ext cx="1392480" cy="38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Book Antiqua"/>
                  </a:rPr>
                  <a:t>Третья декада декабря</a:t>
                </a:r>
                <a:endParaRPr b="0" lang="en-US" sz="12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91" name="Rectangle 4"/>
          <p:cNvSpPr/>
          <p:nvPr/>
        </p:nvSpPr>
        <p:spPr>
          <a:xfrm>
            <a:off x="1428840" y="421200"/>
            <a:ext cx="600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Основные этапы подготовки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  <a:ea typeface="Arial"/>
              </a:rPr>
              <a:t> бюджета городского поселения – город Павловс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2" name="Штриховая стрелка вправо 25"/>
          <p:cNvGrpSpPr/>
          <p:nvPr/>
        </p:nvGrpSpPr>
        <p:grpSpPr>
          <a:xfrm>
            <a:off x="341280" y="5035680"/>
            <a:ext cx="1682640" cy="718920"/>
            <a:chOff x="341280" y="5035680"/>
            <a:chExt cx="1682640" cy="718920"/>
          </a:xfrm>
        </p:grpSpPr>
        <p:pic>
          <p:nvPicPr>
            <p:cNvPr id="193" name="Штриховая стрелка вправо 25" descr=""/>
            <p:cNvPicPr/>
            <p:nvPr/>
          </p:nvPicPr>
          <p:blipFill>
            <a:blip r:embed="rId9"/>
            <a:stretch/>
          </p:blipFill>
          <p:spPr>
            <a:xfrm>
              <a:off x="341280" y="5035680"/>
              <a:ext cx="16826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57200" y="5232240"/>
              <a:ext cx="13827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Book Antiqua"/>
                </a:rPr>
                <a:t>Середина декабря</a:t>
              </a:r>
              <a:endParaRPr b="0" lang="en-US" sz="12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5" name="Rectangle 8"/>
          <p:cNvSpPr/>
          <p:nvPr/>
        </p:nvSpPr>
        <p:spPr>
          <a:xfrm>
            <a:off x="2071800" y="5143680"/>
            <a:ext cx="6643440" cy="571320"/>
          </a:xfrm>
          <a:prstGeom prst="rect">
            <a:avLst/>
          </a:prstGeom>
          <a:gradFill rotWithShape="0">
            <a:gsLst>
              <a:gs pos="0">
                <a:srgbClr val="5ef0f7"/>
              </a:gs>
              <a:gs pos="100000">
                <a:srgbClr val="2cb0b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  <a:ea typeface="Arial"/>
              </a:rPr>
              <a:t>Проведение публичных слушаний по вопросу принятия проекта решения о бюджете городского поселения – город Павловск на очередной финансовый год и плановый период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"/>
          <p:cNvSpPr/>
          <p:nvPr/>
        </p:nvSpPr>
        <p:spPr>
          <a:xfrm>
            <a:off x="714240" y="5219640"/>
            <a:ext cx="7858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Проект бюджета сформирован по программно–целевому принципу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сего на данный момент  разработан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муниципальных программ 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714680" y="39024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Составление проекта бюдже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городского поселения – город Павловс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700280"/>
          <a:ext cx="8604000" cy="3228840"/>
        </p:xfrm>
        <a:graphic>
          <a:graphicData uri="http://schemas.openxmlformats.org/drawingml/2006/table">
            <a:tbl>
              <a:tblPr/>
              <a:tblGrid>
                <a:gridCol w="2151000"/>
                <a:gridCol w="2151000"/>
                <a:gridCol w="2000160"/>
                <a:gridCol w="2301840"/>
              </a:tblGrid>
              <a:tr h="7038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ставление проекта бюджета городского поселения – город Павловск основывается на 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stretch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Бюджетном послании Президента Российской Фед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Прогнозе социально-экономическ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я городского поселения -город Павловс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Основных направлениях бюджетной и налоговой поли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Государственных (муниципальных программах)    Воронежской области и городского посе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1116000" y="2143080"/>
          <a:ext cx="7559640" cy="3193920"/>
        </p:xfrm>
        <a:graphic>
          <a:graphicData uri="http://schemas.openxmlformats.org/drawingml/2006/table">
            <a:tbl>
              <a:tblPr/>
              <a:tblGrid>
                <a:gridCol w="2376360"/>
                <a:gridCol w="1800360"/>
                <a:gridCol w="1727280"/>
                <a:gridCol w="1655640"/>
              </a:tblGrid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год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3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год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ОЕ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259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ДОХОДЫ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0672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9740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9382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298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Налоговые и неналогов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6973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3676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7630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730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звозмездные перечисления из областного бюдж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3699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2373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75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3297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РАСХОДЫ,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1349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19550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8988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Профицит, дефицит(+/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-676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adfff">
                        <a:alpha val="51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00" name="Rectangle 4"/>
          <p:cNvSpPr/>
          <p:nvPr/>
        </p:nvSpPr>
        <p:spPr>
          <a:xfrm>
            <a:off x="500040" y="71604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Основные параметры бюджет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Arial"/>
              </a:rPr>
              <a:t>городского поселения – город Павловс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7286760" y="17859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 Antiqua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Налог на доходы физических лиц</a:t>
            </a:r>
            <a:br>
              <a:rPr sz="22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В соответствии со ст. 218-220 главы 23 Налогового кодекса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Российской Федерации предоставляются налоговые вычеты, в том числе: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Схема 12" descr=""/>
          <p:cNvPicPr/>
          <p:nvPr/>
        </p:nvPicPr>
        <p:blipFill>
          <a:blip r:embed="rId2"/>
          <a:stretch/>
        </p:blipFill>
        <p:spPr>
          <a:xfrm>
            <a:off x="353880" y="1523880"/>
            <a:ext cx="842976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642600"/>
            <a:ext cx="6943680" cy="43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ДОРОЖНЫЙ ФОН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Схема 8" descr=""/>
          <p:cNvPicPr/>
          <p:nvPr/>
        </p:nvPicPr>
        <p:blipFill>
          <a:blip r:embed="rId2"/>
          <a:stretch/>
        </p:blipFill>
        <p:spPr>
          <a:xfrm>
            <a:off x="628560" y="1133640"/>
            <a:ext cx="8223480" cy="5370480"/>
          </a:xfrm>
          <a:prstGeom prst="rect">
            <a:avLst/>
          </a:prstGeom>
          <a:ln w="0">
            <a:noFill/>
          </a:ln>
        </p:spPr>
      </p:pic>
      <p:grpSp>
        <p:nvGrpSpPr>
          <p:cNvPr id="207" name="Штриховая стрелка вправо 9"/>
          <p:cNvGrpSpPr/>
          <p:nvPr/>
        </p:nvGrpSpPr>
        <p:grpSpPr>
          <a:xfrm>
            <a:off x="4413240" y="2322360"/>
            <a:ext cx="781200" cy="536760"/>
            <a:chOff x="4413240" y="2322360"/>
            <a:chExt cx="781200" cy="536760"/>
          </a:xfrm>
        </p:grpSpPr>
        <p:pic>
          <p:nvPicPr>
            <p:cNvPr id="208" name="Штриховая стрелка вправо 9" descr=""/>
            <p:cNvPicPr/>
            <p:nvPr/>
          </p:nvPicPr>
          <p:blipFill>
            <a:blip r:embed="rId3"/>
            <a:stretch/>
          </p:blipFill>
          <p:spPr>
            <a:xfrm>
              <a:off x="4413240" y="2322360"/>
              <a:ext cx="7812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 rot="16200000">
              <a:off x="4687920" y="2421000"/>
              <a:ext cx="2332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10" name="Штриховая стрелка вправо 10"/>
          <p:cNvGrpSpPr/>
          <p:nvPr/>
        </p:nvGrpSpPr>
        <p:grpSpPr>
          <a:xfrm>
            <a:off x="4406760" y="4035600"/>
            <a:ext cx="830520" cy="506160"/>
            <a:chOff x="4406760" y="4035600"/>
            <a:chExt cx="830520" cy="506160"/>
          </a:xfrm>
        </p:grpSpPr>
        <p:pic>
          <p:nvPicPr>
            <p:cNvPr id="211" name="Штриховая стрелка вправо 10" descr=""/>
            <p:cNvPicPr/>
            <p:nvPr/>
          </p:nvPicPr>
          <p:blipFill>
            <a:blip r:embed="rId4"/>
            <a:stretch/>
          </p:blipFill>
          <p:spPr>
            <a:xfrm>
              <a:off x="4406760" y="4035600"/>
              <a:ext cx="830520" cy="50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 rot="5400000">
              <a:off x="4716720" y="4072680"/>
              <a:ext cx="21132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3000" y="285840"/>
            <a:ext cx="75009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Межбюджетные трансферты - основной вид безвозмездных перечислений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3571920" y="1285920"/>
            <a:ext cx="51433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Book Antiqua"/>
              </a:rPr>
              <a:t>Межбюджетные трансферты </a:t>
            </a:r>
            <a:r>
              <a:rPr b="0" lang="en-US" sz="1700" spc="-1" strike="noStrike">
                <a:solidFill>
                  <a:srgbClr val="000000"/>
                </a:solidFill>
                <a:latin typeface="Book Antiqua"/>
              </a:rPr>
              <a:t>– это денежные средства, перечисляемые из одного бюджета бюджетной системы Российской Федерации другому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55640" y="2786040"/>
          <a:ext cx="8064000" cy="2847960"/>
        </p:xfrm>
        <a:graphic>
          <a:graphicData uri="http://schemas.openxmlformats.org/drawingml/2006/table">
            <a:tbl>
              <a:tblPr/>
              <a:tblGrid>
                <a:gridCol w="4140000"/>
                <a:gridCol w="3924000"/>
              </a:tblGrid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иды межбюджетных трансфер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  <a:tr h="5104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тации</a:t>
                      </a:r>
                      <a:br>
                        <a:rPr sz="1500"/>
                      </a:b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 (от лат. "dotatio" - дар, пожертвование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marL="82440" indent="451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оставляются без определе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ия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конкретной цели их использования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  <a:tr h="92088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бвенции  </a:t>
                      </a:r>
                      <a:br>
                        <a:rPr sz="1500"/>
                      </a:b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(от лат. "subvenre" - приходить на помощь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marL="82440" indent="451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оставляются на финансирование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"переданных" другим публично-правовым образованиям полномочий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  <a:tr h="6926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бсидии </a:t>
                      </a:r>
                      <a:br>
                        <a:rPr sz="1500"/>
                      </a:b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  </a:t>
                      </a:r>
                      <a:r>
                        <a:rPr b="0" i="1" lang="ru-RU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от лат. "subsidium" - поддержк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marL="82440" indent="451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редоставляются на условиях долевого софинансирования расходов других бюджетов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8e3fb">
                        <a:alpha val="58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16" name="Picture 1" descr="D:\Документы\2014\Задания отчеты\Исполненеие бюджета\78319827.jpg"/>
          <p:cNvPicPr/>
          <p:nvPr/>
        </p:nvPicPr>
        <p:blipFill>
          <a:blip r:embed="rId2"/>
          <a:stretch/>
        </p:blipFill>
        <p:spPr>
          <a:xfrm>
            <a:off x="1428840" y="1141560"/>
            <a:ext cx="142884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08:51:20Z</dcterms:created>
  <dc:creator>user1</dc:creator>
  <dc:description/>
  <dc:language>en-US</dc:language>
  <cp:lastModifiedBy>Glbuh</cp:lastModifiedBy>
  <dcterms:modified xsi:type="dcterms:W3CDTF">2020-12-08T05:14:34Z</dcterms:modified>
  <cp:revision>299</cp:revision>
  <dc:subject/>
  <dc:title>Слайд 1</dc:title>
</cp:coreProperties>
</file>